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90758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5960" y="812520"/>
            <a:ext cx="578160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  <a:defRPr b="0" lang="fr-L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5A98CEA6-1B4A-44F7-A98B-E66E878C3D83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EFC69F2-3978-4119-9251-21A7C5CA77FA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EC5D29C-F6EB-4C59-8149-14E7F425B08B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7801B4F-2DAB-4149-B2CA-D214D9820015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B869577-584D-47B8-891B-02B742B57528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A35F445-420C-45A4-9BC6-E94AEE51842E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748F2541-7F33-4B9F-AAD1-C81E21E7B8D8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AEAAFEFB-1D7A-4E03-BE68-54FBFD434B23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25DC43B-8777-4BD1-BEF0-56A537BBD423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2A50F22-88DD-4003-B5F1-18670C8F2E42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2BEF7CE-1AB4-4670-A449-C35DF35D8500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AE81FD0F-6820-4ADD-A54F-2345708DA92F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076D66F-D3CE-47B8-9810-3DB47C56E40D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3F4C19F-4231-42DB-9461-DF0DB3D7158B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7AFF634-E0E7-4FA8-B901-BA4C7EF248ED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809801B-209A-4421-9B45-EFC91F2FBC9A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AD017AB7-9A30-4A90-A7ED-D2D44107EDC7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19B711A-BBF2-48FE-92BC-1BA8148932E0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DCF13042-B346-4515-BDAB-C64C87D385F0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AD92860-DFAE-4940-8D81-6B2165D755F8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DF9BEFE4-92E0-4299-924E-E54757DF150B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D1F05D7B-1CA3-4494-9EB8-71A2C20CE68B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D5158736-666D-4AE8-A00A-B87BF9409AC1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9612C7F6-D091-481B-984B-FA07C5C1B066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7F70A46-E986-40DF-9BD8-F3592A095E74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BCC3B36-61B9-4C2E-BD31-DB423ACDAA8E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1DEB02D-FC00-4E89-A7E0-B25061EEDC32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7E44042-83DC-46E1-8FED-9738EFC03FDC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A8639312-AF7C-4545-89A9-E91235D13F36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A3AF292-1A12-4DF9-A936-34E1DA9B6081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FA66C3D5-ACF7-4A79-BCB7-591368A1B083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8951A151-D15C-4BDC-9D1B-08CE3E22ED1E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FC9CCB4-821D-4C8F-B75C-DE7936F4E6DB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9D87F2F-880C-4D94-A4C3-54C3E1A7430D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779B744A-126A-4ACB-9ED8-5CF46E3258C6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97EB16D-1789-4BA6-93A0-C94776BC91CE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2F3F064-D4F4-433B-B629-1405A5470267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C9B83D4E-688A-4E4C-B015-2372912F8F58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2DC7098C-18E0-41F6-8C69-D4CE0F4EB29E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448F8111-9A9B-47AA-89DE-00000CF62001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2AB5F39-9A21-4852-B6F0-4637B6AC8471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E5A87B83-EBED-4052-B94D-1AF197B584CD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DC2A3F2-6F18-4EA3-81B2-68BE074951FF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67E4C3B4-D6EA-40F8-9704-6BFB93D50030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19AE106C-7BB3-40AC-8F1B-FEA47581FCAE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0C6F1FD5-F4C0-4CF8-BC26-91BC8ABE7BBD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F66762E8-A28A-4ACE-9318-CF8F189403F3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4278240" y="10156680"/>
            <a:ext cx="327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6040"/>
                <a:tab algn="l" pos="893880"/>
                <a:tab algn="l" pos="1341360"/>
                <a:tab algn="l" pos="1789200"/>
                <a:tab algn="l" pos="2236680"/>
                <a:tab algn="l" pos="2684520"/>
                <a:tab algn="l" pos="3132000"/>
                <a:tab algn="l" pos="3579840"/>
                <a:tab algn="l" pos="4027320"/>
                <a:tab algn="l" pos="4475160"/>
                <a:tab algn="l" pos="4923000"/>
                <a:tab algn="l" pos="5370480"/>
                <a:tab algn="l" pos="5818320"/>
                <a:tab algn="l" pos="6265800"/>
                <a:tab algn="l" pos="6713640"/>
                <a:tab algn="l" pos="7161120"/>
                <a:tab algn="l" pos="7608960"/>
                <a:tab algn="l" pos="8056440"/>
                <a:tab algn="l" pos="8504280"/>
                <a:tab algn="l" pos="895176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fld id="{B46F7DCC-2E43-4C95-9A2E-E3A944732C8A}" type="slidenum">
              <a:rPr b="0" lang="fr-L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1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A5C5-AA0F-422B-8C5F-34ABDA1C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617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08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6120"/>
            <a:ext cx="8908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087-B9FA-4662-AD79-F7D406C9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617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73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0160" y="1604520"/>
            <a:ext cx="43473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6120"/>
            <a:ext cx="43473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0160" y="3966120"/>
            <a:ext cx="43473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127-8636-4B1F-AB49-A63778FA1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617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684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7120" y="1604520"/>
            <a:ext cx="28684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9600" y="1604520"/>
            <a:ext cx="28684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6120"/>
            <a:ext cx="28684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7120" y="3966120"/>
            <a:ext cx="28684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9600" y="3966120"/>
            <a:ext cx="286848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A1F-9398-48F7-8BF7-5B1ACC624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617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08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Aft>
                <a:spcPts val="1349"/>
              </a:spcAft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D673-B1B8-4D33-932E-CE284DD8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617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08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7A7-234D-4D45-B121-AED9A3F5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617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73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0160" y="1604520"/>
            <a:ext cx="43473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CE0-C90E-44C8-8638-E1B00075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617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052C-3CF9-470D-93DF-9088E0EFB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61720"/>
            <a:ext cx="8908920" cy="54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D5F2-B2A6-42FE-B7CA-5F298EABC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617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73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0160" y="1604520"/>
            <a:ext cx="43473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6120"/>
            <a:ext cx="43473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8DAC-50D9-4DED-968C-D338B872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617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736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0160" y="1604520"/>
            <a:ext cx="43473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0160" y="3966120"/>
            <a:ext cx="43473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2AD-3FE3-481C-A87F-60FD8DAC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617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473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0160" y="1604520"/>
            <a:ext cx="434736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6120"/>
            <a:ext cx="8908920" cy="21564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indent="0">
              <a:lnSpc>
                <a:spcPct val="96000"/>
              </a:lnSpc>
              <a:spcAft>
                <a:spcPts val="1349"/>
              </a:spcAft>
              <a:buNone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332-E613-4A72-987C-35412A7CF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617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08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marL="325440" indent="-325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6320" indent="-271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521000" indent="-21780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955880" indent="-217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955880" indent="-217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955880" indent="-217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25600" y="6224760"/>
            <a:ext cx="2303280" cy="4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fr-CH" sz="1000" spc="-1" strike="noStrike">
                <a:solidFill>
                  <a:srgbClr val="000000"/>
                </a:solidFill>
                <a:latin typeface="Arial"/>
                <a:ea typeface="MS Gothic"/>
              </a:defRPr>
            </a:lvl1pPr>
          </a:lstStyle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CH" sz="1000" spc="-1" strike="noStrike">
                <a:solidFill>
                  <a:srgbClr val="000000"/>
                </a:solidFill>
                <a:latin typeface="Arial"/>
                <a:ea typeface="MS Gothic"/>
              </a:rPr>
              <a:t>Luxembourg 29.04.20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60600" y="6224760"/>
            <a:ext cx="3135600" cy="46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02080" y="6246360"/>
            <a:ext cx="23036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fr-LU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96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5793787-9D5C-4A3D-871F-10268C0C5D73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justice.public.l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justice.public.lu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mailto:nadine.bogelmann@molitorlegal.lu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845560" cy="506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590840" y="1752480"/>
            <a:ext cx="77054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8760" bIns="42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3500" spc="-1" strike="noStrike">
                <a:solidFill>
                  <a:srgbClr val="ff420e"/>
                </a:solidFill>
                <a:latin typeface="Arial"/>
              </a:rPr>
              <a:t>HOW TO MAKE SURE YOUR INVOICES ARE PAID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600200" y="3886200"/>
            <a:ext cx="6975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8760" bIns="42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2500" spc="-1" strike="noStrike">
                <a:solidFill>
                  <a:srgbClr val="800000"/>
                </a:solidFill>
                <a:latin typeface="Arial"/>
              </a:rPr>
              <a:t>Nadine BOGELMANN – Partn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1800" spc="-1" strike="noStrike">
                <a:solidFill>
                  <a:srgbClr val="800000"/>
                </a:solidFill>
                <a:latin typeface="Arial"/>
              </a:rPr>
              <a:t>MOLITOR Avocats à la C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1800" spc="-1" strike="noStrike">
                <a:solidFill>
                  <a:srgbClr val="800000"/>
                </a:solidFill>
                <a:latin typeface="Arial"/>
              </a:rPr>
              <a:t>21 September 20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tretch/>
        </p:blipFill>
        <p:spPr>
          <a:xfrm>
            <a:off x="7340760" y="304920"/>
            <a:ext cx="2001600" cy="488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2781360" cy="55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"/>
          <p:cNvPicPr/>
          <p:nvPr/>
        </p:nvPicPr>
        <p:blipFill>
          <a:blip r:embed="rId4"/>
          <a:stretch/>
        </p:blipFill>
        <p:spPr>
          <a:xfrm>
            <a:off x="3519360" y="228600"/>
            <a:ext cx="596880" cy="538200"/>
          </a:xfrm>
          <a:prstGeom prst="rect">
            <a:avLst/>
          </a:prstGeom>
          <a:ln w="0">
            <a:noFill/>
          </a:ln>
        </p:spPr>
      </p:pic>
      <p:sp>
        <p:nvSpPr>
          <p:cNvPr id="56" name="Slide Number Placeholder 8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25BE630-4C09-4114-9EC6-D68081D7FFF3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6840" y="914400"/>
            <a:ext cx="890892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 startAt="2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 startAt="2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 startAt="2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Know your cli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 startAt="2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dentification of individu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dentification of legal entit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olvency Check (national and international bankruptcy, liquidation, excessive deb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iversification of customers and activity seg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t up credit limits by client and by activity seg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Times New Roman"/>
              <a:buChar char="»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6000"/>
              </a:lnSpc>
              <a:spcAft>
                <a:spcPts val="1349"/>
              </a:spcAft>
              <a:buClr>
                <a:srgbClr val="ff66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712"/>
              </a:lnSpc>
              <a:spcAft>
                <a:spcPts val="1349"/>
              </a:spcAft>
              <a:buClr>
                <a:srgbClr val="ff66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"/>
          <p:cNvSpPr/>
          <p:nvPr/>
        </p:nvSpPr>
        <p:spPr>
          <a:xfrm>
            <a:off x="304920" y="914400"/>
            <a:ext cx="899136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10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693D058-AF5D-46F1-9CC5-06680CEBA8E4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AutoShape 3"/>
          <p:cNvSpPr/>
          <p:nvPr/>
        </p:nvSpPr>
        <p:spPr>
          <a:xfrm>
            <a:off x="533520" y="1360440"/>
            <a:ext cx="8845560" cy="4735440"/>
          </a:xfrm>
          <a:prstGeom prst="roundRect">
            <a:avLst>
              <a:gd name="adj" fmla="val 28"/>
            </a:avLst>
          </a:prstGeom>
          <a:solidFill>
            <a:srgbClr val="ff66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60520" y="2590920"/>
            <a:ext cx="784836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68760" bIns="42840" anchor="t">
            <a:noAutofit/>
          </a:bodyPr>
          <a:p>
            <a:pPr lvl="1" marL="1123920" indent="-743040">
              <a:lnSpc>
                <a:spcPct val="96000"/>
              </a:lnSpc>
              <a:tabLst>
                <a:tab algn="l" pos="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fr-FR" sz="4400" spc="-1" strike="noStrike">
                <a:solidFill>
                  <a:srgbClr val="660066"/>
                </a:solidFill>
                <a:latin typeface="Arial"/>
                <a:ea typeface="MS Gothic"/>
              </a:rPr>
              <a:t>B. CREATING THE 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1123920" indent="-743040">
              <a:lnSpc>
                <a:spcPct val="96000"/>
              </a:lnSpc>
              <a:tabLst>
                <a:tab algn="l" pos="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fr-FR" sz="4400" spc="-1" strike="noStrike">
                <a:solidFill>
                  <a:srgbClr val="660066"/>
                </a:solidFill>
                <a:latin typeface="Arial"/>
                <a:ea typeface="MS Gothic"/>
              </a:rPr>
              <a:t> </a:t>
            </a:r>
            <a:r>
              <a:rPr b="0" lang="fr-FR" sz="4400" spc="-1" strike="noStrike">
                <a:solidFill>
                  <a:srgbClr val="660066"/>
                </a:solidFill>
                <a:latin typeface="Arial"/>
                <a:ea typeface="MS Gothic"/>
              </a:rPr>
              <a:t>RELATIONSHI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fr-LU" sz="5100" spc="-1" strike="noStrike">
                <a:solidFill>
                  <a:srgbClr val="ffffff"/>
                </a:solidFill>
                <a:latin typeface="Arial"/>
                <a:ea typeface="MS Gothic"/>
              </a:rPr>
              <a:t>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15" name="Slide Number Placeholder 4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1CCF0C2-2CE4-4530-AAE7-AFD175FA2481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914040"/>
            <a:ext cx="6019920" cy="52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1" marL="1095480" indent="-714600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 startAt="2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 startAt="2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ing the customer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39348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39348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terms and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39348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uaran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39348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idity of in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39348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ther ways to reduce the risk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393480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pa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buClr>
                <a:srgbClr val="ff6600"/>
              </a:buClr>
              <a:buFont typeface="Times New Roman"/>
              <a:buChar char="•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ts val="1712"/>
              </a:lnSpc>
              <a:spcAft>
                <a:spcPts val="1349"/>
              </a:spcAft>
              <a:buClr>
                <a:srgbClr val="ff6600"/>
              </a:buClr>
              <a:buFont typeface="Arial"/>
              <a:buChar char="•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18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Content Placeholder 8" descr="Screen shot 2011-11-25 at 10.26.10 AM.png"/>
          <p:cNvPicPr/>
          <p:nvPr/>
        </p:nvPicPr>
        <p:blipFill>
          <a:blip r:embed="rId2"/>
          <a:srcRect l="0" t="-27443" r="0" b="-27443"/>
          <a:stretch/>
        </p:blipFill>
        <p:spPr>
          <a:xfrm>
            <a:off x="5759280" y="1523880"/>
            <a:ext cx="4146840" cy="44197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"/>
          <p:cNvSpPr/>
          <p:nvPr/>
        </p:nvSpPr>
        <p:spPr>
          <a:xfrm>
            <a:off x="45720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7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FDF7198-A793-49CC-8FBC-F919CEEDB10D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6840" y="914400"/>
            <a:ext cx="890892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Contra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ja-JP" sz="2400" spc="-1" strike="noStrike">
                <a:solidFill>
                  <a:srgbClr val="ff66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A contract is a convention by which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party obliges itself towards one or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other parties, in order to provide, to d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or not to do something.</a:t>
            </a:r>
            <a:r>
              <a:rPr b="0" lang="ja-JP" sz="2400" spc="-1" strike="noStrike">
                <a:solidFill>
                  <a:srgbClr val="ff66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Article 1101 of the Civil C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25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3982D12-44FE-4D18-A387-28BAA45E91CA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6840" y="914400"/>
            <a:ext cx="890892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Validity of the Contrac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urpose (existence / lega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pacity to act (individual / legal ent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ence of undue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orm of the Contrac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ari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31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96E3815F-961E-4F2D-BFB5-8F5E03A91B54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914400"/>
            <a:ext cx="890892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ntractual Clau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icable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Jurisdiction and Competent courts in the event of lit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bitration (only in commercial mat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diation (Law of 24 February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rden of p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mitation (of liability, transference of ri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879560" indent="2793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Times New Roman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37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A92E299-10CA-49EA-9C76-1DFC045EBBFB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6840" y="914400"/>
            <a:ext cx="890892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 startAt="2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eneral Terms and Condi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Understandable by the client / custom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Known or accepted by the client / custome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Include usual clauses (between professionals and between professionals and consumers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xclude abusive claus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43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"/>
          <p:cNvSpPr/>
          <p:nvPr/>
        </p:nvSpPr>
        <p:spPr>
          <a:xfrm>
            <a:off x="45720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0E91F65-4C59-44B4-8C86-B9DE0EA76A69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914400"/>
            <a:ext cx="906768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 startAt="3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Guarant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General princip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Different types of guarante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sonal guarant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rges on proper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49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45720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C9023B6-404C-485E-81DD-AF7BBA8DDA0A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066320"/>
            <a:ext cx="769608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tabLst>
                <a:tab algn="l" pos="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ersonal guarante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ire the intervention of a third party who personally undertakes to guarantee payment of the de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harges on proper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 to goods and chatells, including real estate. In cases of non-payment by the debtor, the creditor can either retain or seize the item or sell it by public auction to obtain pa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55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Rectangle 1"/>
          <p:cNvSpPr/>
          <p:nvPr/>
        </p:nvSpPr>
        <p:spPr>
          <a:xfrm>
            <a:off x="45720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0A876D3-A56E-4502-B5F5-F93B2F0AF06A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6840" y="1066320"/>
            <a:ext cx="890892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tabLst>
                <a:tab algn="l" pos="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ersonal guarante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arantee on first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harges on property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tabLst>
                <a:tab algn="l" pos="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tg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 of retention / l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servation of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61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"/>
          <p:cNvSpPr/>
          <p:nvPr/>
        </p:nvSpPr>
        <p:spPr>
          <a:xfrm>
            <a:off x="45720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7D53C77-B261-4B85-81BD-7046F7A6E04B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530280" y="1143000"/>
            <a:ext cx="8845560" cy="4734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762120" y="2676600"/>
            <a:ext cx="531792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8760" bIns="42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5100" spc="-1" strike="noStrike">
                <a:solidFill>
                  <a:srgbClr val="ff6600"/>
                </a:solidFill>
                <a:latin typeface="Arial"/>
              </a:rPr>
              <a:t>INTRODUCTION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4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7618692-BE5A-4A27-801E-45B1C67A00FA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6840" y="914400"/>
            <a:ext cx="890892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 startAt="4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Validity of Invo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What should be included in the invoice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247840" indent="-368280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Obligatory: description of goods sold, services carried out, amount charged, applicable VAT, VAT number, invoice delivery date, name and address of the sender and the receiver of the invoi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247840" indent="-368280">
              <a:lnSpc>
                <a:spcPct val="96000"/>
              </a:lnSpc>
              <a:spcAft>
                <a:spcPts val="275"/>
              </a:spcAft>
              <a:tabLst>
                <a:tab algn="l" pos="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247840" indent="-36828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Advisable: bank details, method of payment, credit terms, discount (if any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67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"/>
          <p:cNvSpPr/>
          <p:nvPr/>
        </p:nvSpPr>
        <p:spPr>
          <a:xfrm>
            <a:off x="45720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CA92411-0D6E-4AEE-BED9-2B84E594B61D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6840" y="914400"/>
            <a:ext cx="89089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 startAt="5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ther ways to reduce the risk of non-pay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Payment on accou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2. Factoring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The selling of a company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 accounts receivable, at a discount, to a factor, who then assumes the credit risk of the debtor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 account and receives payment as and when the debtor settles his accou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3. Credit assurance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An insurance policy protecting a company in the event that it does not collect an unusually large amount of its accounts receivab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4. Credit finance </a:t>
            </a: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– Financing the purchase through a credit institu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73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"/>
          <p:cNvSpPr/>
          <p:nvPr/>
        </p:nvSpPr>
        <p:spPr>
          <a:xfrm>
            <a:off x="45720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6869D90-5775-42DD-80D0-1EA2DF8CCCC2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845560" cy="47340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4"/>
          <p:cNvSpPr/>
          <p:nvPr/>
        </p:nvSpPr>
        <p:spPr>
          <a:xfrm>
            <a:off x="838080" y="2590920"/>
            <a:ext cx="5699160" cy="17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8760" bIns="42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5100" spc="-1" strike="noStrike">
                <a:solidFill>
                  <a:srgbClr val="ff6600"/>
                </a:solidFill>
                <a:latin typeface="Arial"/>
              </a:rPr>
              <a:t>CHASING THE DEBTOR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51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80" name="Slide Number Placeholder 4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6459592-EE7E-4954-857F-A7586E451272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95360" y="228600"/>
            <a:ext cx="4076640" cy="58975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ing the 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nd a remi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and find an amicabl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buClr>
                <a:srgbClr val="ff6600"/>
              </a:buClr>
              <a:buFont typeface="Times New Roman"/>
              <a:buChar char="•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ts val="1712"/>
              </a:lnSpc>
              <a:spcAft>
                <a:spcPts val="1349"/>
              </a:spcAft>
              <a:buClr>
                <a:srgbClr val="ff6600"/>
              </a:buClr>
              <a:buFont typeface="Arial"/>
              <a:buChar char="•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83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Content Placeholder 9" descr="Screen shot 2011-11-25 at 10.31.46 AM.png"/>
          <p:cNvPicPr/>
          <p:nvPr/>
        </p:nvPicPr>
        <p:blipFill>
          <a:blip r:embed="rId2"/>
          <a:srcRect l="0" t="-29844" r="0" b="-29844"/>
          <a:stretch/>
        </p:blipFill>
        <p:spPr>
          <a:xfrm>
            <a:off x="5025960" y="1604880"/>
            <a:ext cx="4378320" cy="45212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THE DEBTOR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lide Number Placeholder 7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A9B24DB-49B2-4CCB-9A77-F255EE10DA0C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6840" y="914040"/>
            <a:ext cx="89089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 fontScale="97000"/>
          </a:bodyPr>
          <a:p>
            <a:pPr lvl="2" marL="1428840" indent="-6926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6926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6926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ending a reminde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850760" indent="-6926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850760" indent="-6926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hone cal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850760" indent="-6926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riendly vis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850760" indent="-6926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Reminder by mail / statement of accou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850760" indent="-6926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First official reminder let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850760" indent="-6926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ond official reminder let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850760" indent="-6926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90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THE DEBTOR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8E7961B5-934E-4BF1-AC7F-F4F398EECD9E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914400"/>
            <a:ext cx="8153280" cy="482616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 startAt="2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 startAt="2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 startAt="2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Finding an amicable solu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Payment by instal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ttl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96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THE DEBTOR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BF0CC7E-C0CF-4CEE-A708-295321078FF0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95360" y="228600"/>
            <a:ext cx="8115120" cy="58975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 startAt="2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nging the Alarm B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mal notice to p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il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gal means of applying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e potential defence that you h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t performed your part of the con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buClr>
                <a:srgbClr val="ff6600"/>
              </a:buClr>
              <a:buFont typeface="Times New Roman"/>
              <a:buChar char="•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ts val="1712"/>
              </a:lnSpc>
              <a:spcAft>
                <a:spcPts val="1349"/>
              </a:spcAft>
              <a:buClr>
                <a:srgbClr val="ff6600"/>
              </a:buClr>
              <a:buFont typeface="Arial"/>
              <a:buChar char="•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02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Content Placeholder 8" descr="Image 4.png"/>
          <p:cNvPicPr/>
          <p:nvPr/>
        </p:nvPicPr>
        <p:blipFill>
          <a:blip r:embed="rId2"/>
          <a:srcRect l="0" t="-969" r="0" b="-969"/>
          <a:stretch/>
        </p:blipFill>
        <p:spPr>
          <a:xfrm>
            <a:off x="5907240" y="1600200"/>
            <a:ext cx="3541680" cy="39625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THE DEBTOR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lide Number Placeholder 7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0EF6D60-EB07-430D-BC0C-4B6C1B6F1F85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845560" cy="47340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4"/>
          <p:cNvSpPr/>
          <p:nvPr/>
        </p:nvSpPr>
        <p:spPr>
          <a:xfrm>
            <a:off x="914400" y="2514600"/>
            <a:ext cx="8001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8760" bIns="42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3600" spc="-1" strike="noStrike">
                <a:solidFill>
                  <a:srgbClr val="ff6600"/>
                </a:solidFill>
                <a:latin typeface="Arial"/>
              </a:rPr>
              <a:t>CHASING DEBTORS IN LUXEMBOURG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51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2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10" name="Slide Number Placeholder 4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47418A9-553A-4EC3-900D-8615DCB48D07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228600" y="1066680"/>
            <a:ext cx="586728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rabi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rabi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etent cou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rabi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gistrat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ourts 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ice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i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3.</a:t>
            </a:r>
            <a:r>
              <a:rPr b="0" lang="en-GB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strict courts 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ibunal 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ondiss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13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Content Placeholder 8" descr="Screen shot 2011-11-25 at 9.58.58 AM.png"/>
          <p:cNvPicPr/>
          <p:nvPr/>
        </p:nvPicPr>
        <p:blipFill>
          <a:blip r:embed="rId2"/>
          <a:srcRect l="0" t="-27899" r="0" b="-27899"/>
          <a:stretch/>
        </p:blipFill>
        <p:spPr>
          <a:xfrm>
            <a:off x="5867280" y="1604880"/>
            <a:ext cx="4038840" cy="4521240"/>
          </a:xfrm>
          <a:prstGeom prst="rect">
            <a:avLst/>
          </a:prstGeom>
          <a:ln w="0">
            <a:noFill/>
          </a:ln>
        </p:spPr>
      </p:pic>
      <p:sp>
        <p:nvSpPr>
          <p:cNvPr id="215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LUXEMBOURG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7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B7250BF-B46F-40DF-B017-2A8D9D931EC4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0492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 fontScale="82000"/>
          </a:bodyPr>
          <a:p>
            <a:pPr lvl="1" marL="898200" indent="-58572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4560" indent="-58536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98200" indent="-58572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rabi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Competent cou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564560" indent="-58536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07800" indent="-3225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Wingdings" charset="2"/>
              <a:buChar char="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etence based on value: above or below EUR 10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800" indent="-3225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Wingdings" charset="2"/>
              <a:buChar char="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etence based on locality: domicile of the debtor, the creditor or the place where the contract wa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800" indent="-32256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Wingdings" charset="2"/>
              <a:buChar char="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etence based on the nature of the debt (civil, commercial or lease ren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4560" indent="-58536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98200" indent="-58572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98200" indent="-58572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3" marL="1564560" indent="-58536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564560" indent="-58536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6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ts val="1712"/>
              </a:lnSpc>
              <a:spcAft>
                <a:spcPts val="1349"/>
              </a:spcAft>
              <a:buClr>
                <a:srgbClr val="ff420e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20" name="Line 6"/>
          <p:cNvSpPr/>
          <p:nvPr/>
        </p:nvSpPr>
        <p:spPr>
          <a:xfrm>
            <a:off x="457200" y="61722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LUXEMBOURG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40A29C2-5E9B-4F7E-8DCF-9B496D94B5C9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INTRODUCTION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3160" y="1218960"/>
            <a:ext cx="89089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l information regarding recovery of deb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38088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65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6" descr="Image 3.png"/>
          <p:cNvPicPr/>
          <p:nvPr/>
        </p:nvPicPr>
        <p:blipFill>
          <a:blip r:embed="rId2"/>
          <a:srcRect l="0" t="0" r="18295" b="22579"/>
          <a:stretch/>
        </p:blipFill>
        <p:spPr>
          <a:xfrm>
            <a:off x="2133720" y="2438280"/>
            <a:ext cx="5867280" cy="2890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Screen shot 2012-09-06 at 11.15.46 AM.png"/>
          <p:cNvPicPr/>
          <p:nvPr/>
        </p:nvPicPr>
        <p:blipFill>
          <a:blip r:embed="rId3"/>
          <a:stretch/>
        </p:blipFill>
        <p:spPr>
          <a:xfrm>
            <a:off x="533520" y="5486400"/>
            <a:ext cx="1771560" cy="431640"/>
          </a:xfrm>
          <a:prstGeom prst="rect">
            <a:avLst/>
          </a:prstGeom>
          <a:ln w="0">
            <a:noFill/>
          </a:ln>
        </p:spPr>
      </p:pic>
      <p:sp>
        <p:nvSpPr>
          <p:cNvPr id="68" name="Slide Number Placeholder 8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8A3882A-C4A9-4D18-968D-AAD106128C14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80520" y="914400"/>
            <a:ext cx="899172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rabi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Competent cour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26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1523880" y="2133720"/>
            <a:ext cx="7112160" cy="3281400"/>
          </a:xfrm>
          <a:prstGeom prst="rect">
            <a:avLst/>
          </a:prstGeom>
          <a:ln w="0">
            <a:noFill/>
          </a:ln>
        </p:spPr>
      </p:pic>
      <p:sp>
        <p:nvSpPr>
          <p:cNvPr id="228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LUXEMBOURG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7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70D1997-AAFA-46EF-8B92-63A6C52FBE31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845560" cy="4734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4"/>
          <p:cNvSpPr/>
          <p:nvPr/>
        </p:nvSpPr>
        <p:spPr>
          <a:xfrm>
            <a:off x="990720" y="2514600"/>
            <a:ext cx="7924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8760" bIns="42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3600" spc="-1" strike="noStrike">
                <a:solidFill>
                  <a:srgbClr val="ff6600"/>
                </a:solidFill>
                <a:latin typeface="Arial"/>
              </a:rPr>
              <a:t>PROCEDURES FOR THE RECOVERY OF DEB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51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34" name="Slide Number Placeholder 4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EDCA6A0C-5E1C-4813-B42A-A4A7C2A2809A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04920" y="837720"/>
            <a:ext cx="90676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ims below EUR 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1.</a:t>
            </a: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ditional order for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cedure is in 4 ph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MS Gothic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MS Gothic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pplication (request for a conditional payment 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MS Gothic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taining the conditional order for pa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MS Gothic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on 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ed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MS Gothic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 of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MS Gothic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4730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mplates are available on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justice.public.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37" name="Line 6"/>
          <p:cNvSpPr/>
          <p:nvPr/>
        </p:nvSpPr>
        <p:spPr>
          <a:xfrm>
            <a:off x="457200" y="61722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LUXEMBOURG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E1D91B3-6386-4B44-8B22-4F349C8FEF7C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42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LUXEMBOURG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"/>
          <p:cNvSpPr/>
          <p:nvPr/>
        </p:nvSpPr>
        <p:spPr>
          <a:xfrm>
            <a:off x="2590920" y="1219320"/>
            <a:ext cx="472428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QUETE EN MATIERE D’ORDONNANCE DE PAIEMENT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sur base de l’article 919 et suivants du Nouveau Code de Procédure Civile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 soussignée partie créancière 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m et Prénom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ession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micile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de Postal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e et N°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 cas de requête d’une société 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énomination et forme sociale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ège social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méro du registre de commerce et des sociétés de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résentée par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(L’organe représentatif ou son représentant légal (conseil d’administration (S.A.), gérant (s.àr.l.), gérant (S.C.I.), etc.). Ces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renseignements peuvent être obtenus auprès du registre de commerce et des sociétés de Luxembourg (tel. : 26 428-1 / </a:t>
            </a:r>
            <a:r>
              <a:rPr b="0" lang="en-US" sz="200" spc="-1" strike="noStrike">
                <a:solidFill>
                  <a:srgbClr val="0000ff"/>
                </a:solidFill>
                <a:latin typeface="Arial"/>
              </a:rPr>
              <a:t>www.rcsl.lu</a:t>
            </a: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).)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lisant domicile en l’étude de/chez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ie le Président du Tribunal d’Arrondissement de et à Luxembourg de délivrer un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DONNANCE CONDITIONNELLE DE PAIEMENT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e la partie débitrice 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m et Prénom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ession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omicile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de Postal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ue et N°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(Les provisions sur requête ne sont accordées que lorsque le débiteur est domicilié dans le Grand-Duché (art. 919 du NCPC))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n cas de requête d’une société :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énomination et forme sociale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ège social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uméro du registre de commerce et des sociétés de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présentée par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(L’organe représentatif ou son représentant légal (conseil d’administration (S.A.), gérant (s.àr.l.), gérant (S.C.I.), etc.). Ces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renseignements peuvent être obtenus auprès du registre de commerce et des sociétés de Luxembourg (tel. : 26 428-1 / </a:t>
            </a:r>
            <a:r>
              <a:rPr b="0" lang="en-US" sz="200" spc="-1" strike="noStrike">
                <a:solidFill>
                  <a:srgbClr val="0000ff"/>
                </a:solidFill>
                <a:latin typeface="Arial"/>
              </a:rPr>
              <a:t>www.rcsl.lu</a:t>
            </a:r>
            <a:r>
              <a:rPr b="0" lang="en-US" sz="200" spc="-1" strike="noStrike">
                <a:solidFill>
                  <a:srgbClr val="000000"/>
                </a:solidFill>
                <a:latin typeface="Arial"/>
              </a:rPr>
              <a:t>).)</a:t>
            </a: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ur le montant de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en chiffres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__________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en toutes lettres)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edû pour (cause de la créance)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à majorer des intérêts conventionnels à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%, sinon des intérêts légaux à partir de la mise e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meure du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non à partir du jour de la notification de la présente ordonnance jusqu'à sold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t en l’augmentant d’une indemnité d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€ conformément à l’article 240 d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uveau Code de Procédure Civile,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 virer au compte N°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__________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 la partie créancièr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uprès de :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_____________________________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, le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________________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( lieu ) ( date ) ( signature )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Slide Number Placeholder 5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BD19198C-0B06-4F62-8060-DC226E3692FF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04920" y="837720"/>
            <a:ext cx="90676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ims below EUR 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ten</a:t>
            </a:r>
            <a:r>
              <a:rPr b="0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mmons (citation) on Magistrate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48" name="Line 6"/>
          <p:cNvSpPr/>
          <p:nvPr/>
        </p:nvSpPr>
        <p:spPr>
          <a:xfrm>
            <a:off x="457200" y="61722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LUXEMBOURG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42DE781-6707-45C6-A4A7-767B616377B2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837720"/>
            <a:ext cx="90676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aims above EUR 1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 proceedings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(DISTRICT COU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tabLst>
                <a:tab algn="l" pos="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ary proceedings on reques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mmary proceedings 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éféré provis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rit of summons (assign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MS Gothic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54" name="Line 6"/>
          <p:cNvSpPr/>
          <p:nvPr/>
        </p:nvSpPr>
        <p:spPr>
          <a:xfrm>
            <a:off x="457200" y="61722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LUXEMBOURG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4CFE7C3-E8CD-4DD9-A997-E75A60B0A75A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845560" cy="47340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4"/>
          <p:cNvSpPr/>
          <p:nvPr/>
        </p:nvSpPr>
        <p:spPr>
          <a:xfrm>
            <a:off x="838080" y="2438280"/>
            <a:ext cx="80773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8760" bIns="42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3600" spc="-1" strike="noStrike">
                <a:solidFill>
                  <a:srgbClr val="ff6600"/>
                </a:solidFill>
                <a:latin typeface="Arial"/>
              </a:rPr>
              <a:t>PROCEDURES IN CASES OF URGENC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51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5" descr=""/>
          <p:cNvPicPr/>
          <p:nvPr/>
        </p:nvPicPr>
        <p:blipFill>
          <a:blip r:embed="rId2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61" name="Slide Number Placeholder 4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80ED167-3993-418A-B46C-3CD5A10CD60A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1066680"/>
            <a:ext cx="601992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rabi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rabi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pecial attachment (of earn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rabi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rabi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gnment of sa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rabi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tachment on goods or bank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Char char="–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64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Content Placeholder 9" descr="Screen shot 2011-11-25 at 9.57.23 AM.png"/>
          <p:cNvPicPr/>
          <p:nvPr/>
        </p:nvPicPr>
        <p:blipFill>
          <a:blip r:embed="rId2"/>
          <a:srcRect l="0" t="-18602" r="0" b="-18602"/>
          <a:stretch/>
        </p:blipFill>
        <p:spPr>
          <a:xfrm>
            <a:off x="6292800" y="1752480"/>
            <a:ext cx="3613320" cy="4191120"/>
          </a:xfrm>
          <a:prstGeom prst="rect">
            <a:avLst/>
          </a:prstGeom>
          <a:ln w="0">
            <a:noFill/>
          </a:ln>
        </p:spPr>
      </p:pic>
      <p:sp>
        <p:nvSpPr>
          <p:cNvPr id="266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LUXEMBOURG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7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326E4E4-B921-43B6-9B0C-FFCBDD3BC860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845560" cy="47340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4"/>
          <p:cNvSpPr/>
          <p:nvPr/>
        </p:nvSpPr>
        <p:spPr>
          <a:xfrm>
            <a:off x="762120" y="2438280"/>
            <a:ext cx="8137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8760" bIns="42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3600" spc="-1" strike="noStrike">
                <a:solidFill>
                  <a:srgbClr val="ff6600"/>
                </a:solidFill>
                <a:latin typeface="Arial"/>
              </a:rPr>
              <a:t>ENFORCEMENT OF JUDICIAL DECIS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51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72" name="Slide Number Placeholder 4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405AEB6-B067-483C-A374-301F7F226450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04920" y="837720"/>
            <a:ext cx="90676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tabLst>
                <a:tab algn="l" pos="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forcement of judicial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issues: procedural costs (costs of bailiff, expert, translation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ng of the judicial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e of bailiff if decision is definitive (not if there is the possibility of appeal or the order is provisio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ns of enforceme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AutoNum type="arabicPeriod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achment of g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AutoNum type="arabicPeriod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tachment against real proper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Arial"/>
              <a:buAutoNum type="arabicPeriod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ortg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 the absence of any other means of enforcement: presentation of a bankruptcy pe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buClr>
                <a:srgbClr val="ff6600"/>
              </a:buClr>
              <a:buFont typeface="MS Gothic"/>
              <a:buChar char="•"/>
              <a:tabLst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75" name="Line 6"/>
          <p:cNvSpPr/>
          <p:nvPr/>
        </p:nvSpPr>
        <p:spPr>
          <a:xfrm>
            <a:off x="457200" y="624852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6" descr="Image 5.png"/>
          <p:cNvPicPr/>
          <p:nvPr/>
        </p:nvPicPr>
        <p:blipFill>
          <a:blip r:embed="rId2"/>
          <a:stretch/>
        </p:blipFill>
        <p:spPr>
          <a:xfrm>
            <a:off x="7315200" y="3048120"/>
            <a:ext cx="2362320" cy="1981080"/>
          </a:xfrm>
          <a:prstGeom prst="rect">
            <a:avLst/>
          </a:prstGeom>
          <a:ln w="0">
            <a:noFill/>
          </a:ln>
        </p:spPr>
      </p:pic>
      <p:sp>
        <p:nvSpPr>
          <p:cNvPr id="277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LUXEMBOURG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7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DC4BCD5-1357-411B-A499-24A234574C44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INTRODUCTION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6840" y="1218960"/>
            <a:ext cx="89089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38088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73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7" descr="Screen shot 2012-09-06 at 11.15.46 AM.png"/>
          <p:cNvPicPr/>
          <p:nvPr/>
        </p:nvPicPr>
        <p:blipFill>
          <a:blip r:embed="rId2"/>
          <a:stretch/>
        </p:blipFill>
        <p:spPr>
          <a:xfrm>
            <a:off x="533520" y="5486400"/>
            <a:ext cx="1752480" cy="426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Screen shot 2012-09-06 at 11.19.45 AM.png"/>
          <p:cNvPicPr/>
          <p:nvPr/>
        </p:nvPicPr>
        <p:blipFill>
          <a:blip r:embed="rId3"/>
          <a:stretch/>
        </p:blipFill>
        <p:spPr>
          <a:xfrm>
            <a:off x="1752480" y="1066680"/>
            <a:ext cx="6107400" cy="440064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8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35366ED-0A1F-435A-90FA-00F2CF97A39F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845560" cy="47340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914400" y="2514600"/>
            <a:ext cx="8077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8760" bIns="42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CH" sz="3600" spc="-1" strike="noStrike">
                <a:solidFill>
                  <a:srgbClr val="ff6600"/>
                </a:solidFill>
                <a:latin typeface="Arial"/>
              </a:rPr>
              <a:t>CHASING DEBTOR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CH" sz="3600" spc="-1" strike="noStrike">
                <a:solidFill>
                  <a:srgbClr val="ff6600"/>
                </a:solidFill>
                <a:latin typeface="Arial"/>
              </a:rPr>
              <a:t>IN EUROP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51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"/>
          <p:cNvPicPr/>
          <p:nvPr/>
        </p:nvPicPr>
        <p:blipFill>
          <a:blip r:embed="rId2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4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BC3D554-01ED-499D-8B2B-C66E729BFAB4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04560" y="837720"/>
            <a:ext cx="929628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tabLst>
                <a:tab algn="l" pos="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pean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MS Gothic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ght against late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MS Gothic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order for pa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MS Gothic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procedure and regulations for small clai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MS Gothic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ropean writ of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MS Gothic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uropean order of preventative at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MS Gothic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plified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xequatu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MS Gothic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mplates are available on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justice.public.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MS Gothic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86" name="Line 6"/>
          <p:cNvSpPr/>
          <p:nvPr/>
        </p:nvSpPr>
        <p:spPr>
          <a:xfrm>
            <a:off x="457200" y="624852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6" descr="Screen shot 2011-11-25 at 9.53.39 AM.png"/>
          <p:cNvPicPr/>
          <p:nvPr/>
        </p:nvPicPr>
        <p:blipFill>
          <a:blip r:embed="rId3"/>
          <a:srcRect l="0" t="4550" r="2045" b="0"/>
          <a:stretch/>
        </p:blipFill>
        <p:spPr>
          <a:xfrm>
            <a:off x="7467480" y="106668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288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EUROPE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7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34AB573-9314-4BA0-B943-33B77A998DF2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6840" y="9140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MS Gothic"/>
              <a:buChar char="•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MS Gothic"/>
              <a:buChar char="•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ight against late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ve n°2000/35/EC of the European Parliament and of the Council of 29 June 2000 on combating late payment in commercial transa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ed in Luxembourg law by the Law of 18 April 2004 concerning the payment delays and statutory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ive n°2011/7/EU of the European Parliament and of the Council of 16 February 2011 on combating late payment in commercial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93" name="Line 6"/>
          <p:cNvSpPr/>
          <p:nvPr/>
        </p:nvSpPr>
        <p:spPr>
          <a:xfrm>
            <a:off x="457200" y="624852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EUROPE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9CD0D4B-A8B4-4DEE-A0DC-42F59223C638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6840" y="9140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tabLst>
                <a:tab algn="l" pos="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MS Gothic"/>
              <a:buChar char="•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MS Gothic"/>
              <a:buChar char="•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pean order for pay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 (EC) n°1896/2006 of the European Parliament and of the Council of 12 December 2006 creating a European order for payment proced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t jurisdiction: Regulation (EC) n°44/2001 of 22 December 2000 on jurisdiction and the recognition and enforcement of judgments in civil and commercial ma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MS Gothic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299" name="Line 6"/>
          <p:cNvSpPr/>
          <p:nvPr/>
        </p:nvSpPr>
        <p:spPr>
          <a:xfrm>
            <a:off x="457200" y="624852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EUROPE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6233F4D3-4D43-4843-95DB-9030BDF391E2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456840" y="9140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MS Gothic"/>
              <a:buChar char="•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MS Gothic"/>
              <a:buChar char="•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pean procedure and regulations for small cla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 (EC) n°861/2007 of the European Parliament and of the Council of 11 July 2007 establishing a European Small Claims Proced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claims not exceeding EUR 2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ent jurisdiction: Regulation (EC) n°44/2001 of 22 December 2000 on jurisdiction and the recognition and enforcement of judgments in civil and commercial ma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MS Gothic"/>
              <a:buChar char="•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MS Gothic"/>
              <a:buChar char="•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305" name="Line 6"/>
          <p:cNvSpPr/>
          <p:nvPr/>
        </p:nvSpPr>
        <p:spPr>
          <a:xfrm>
            <a:off x="457200" y="624852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EUROPE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3511F2C5-74DC-4CE6-99D3-AD2FF1885BF7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56840" y="9140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4" marL="2343240" indent="-714600" algn="just">
              <a:lnSpc>
                <a:spcPct val="96000"/>
              </a:lnSpc>
              <a:spcAft>
                <a:spcPts val="275"/>
              </a:spcAft>
              <a:tabLst>
                <a:tab algn="l" pos="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MS Gothic"/>
              <a:buChar char="•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MS Gothic"/>
              <a:buChar char="•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ropean writ of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 (EC) n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5/200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European Parliament and of the Council of 21 April 2004 creating a European Enforcement Order for uncontested clai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311" name="Line 6"/>
          <p:cNvSpPr/>
          <p:nvPr/>
        </p:nvSpPr>
        <p:spPr>
          <a:xfrm>
            <a:off x="457200" y="624852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EUROPE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F7AB4F1-DC6F-4FBD-B33A-03F2E96B4C20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456840" y="9140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MS Gothic"/>
              <a:buChar char="•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MS Gothic"/>
              <a:buChar char="•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ropean order of preventative att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Lucida Grande"/>
              <a:buChar char="»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posal for a regulation of the European Parliament and of the Council creating a European Account Preservation Order to facilitate cross-border debt recovery in civil and commercial matters: COM(2011) – 2011/0204 (COD)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tabLst>
                <a:tab algn="l" pos="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317" name="Line 6"/>
          <p:cNvSpPr/>
          <p:nvPr/>
        </p:nvSpPr>
        <p:spPr>
          <a:xfrm>
            <a:off x="457200" y="624852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CHASING DEBTORS IN EUROPE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5F20373-CC79-485C-B1B9-9C7C152A4991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9291600" cy="54864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1752480" y="623880"/>
            <a:ext cx="5735880" cy="51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4640" bIns="44640" anchor="ctr">
            <a:spAutoFit/>
          </a:bodyPr>
          <a:p>
            <a:pPr algn="ctr">
              <a:lnSpc>
                <a:spcPts val="2373"/>
              </a:lnSpc>
              <a:spcBef>
                <a:spcPts val="1488"/>
              </a:spcBef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73"/>
              </a:lnSpc>
              <a:spcBef>
                <a:spcPts val="1488"/>
              </a:spcBef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73"/>
              </a:lnSpc>
              <a:spcBef>
                <a:spcPts val="1488"/>
              </a:spcBef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73"/>
              </a:lnSpc>
              <a:spcBef>
                <a:spcPts val="1488"/>
              </a:spcBef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73"/>
              </a:lnSpc>
              <a:spcBef>
                <a:spcPts val="1488"/>
              </a:spcBef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2373"/>
              </a:lnSpc>
              <a:spcBef>
                <a:spcPts val="1488"/>
              </a:spcBef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FR" sz="4300" spc="-1" strike="noStrike">
                <a:solidFill>
                  <a:srgbClr val="ff6600"/>
                </a:solidFill>
                <a:latin typeface="Arial"/>
              </a:rPr>
              <a:t>THANK YOU!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1488"/>
              </a:spcBef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1488"/>
              </a:spcBef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1488"/>
              </a:spcBef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2373"/>
              </a:lnSpc>
              <a:spcBef>
                <a:spcPts val="1488"/>
              </a:spcBef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ts val="1312"/>
              </a:lnSpc>
              <a:spcBef>
                <a:spcPts val="1074"/>
              </a:spcBef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6781680" y="4800600"/>
            <a:ext cx="274320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908000" indent="-1641240" algn="just">
              <a:lnSpc>
                <a:spcPct val="96000"/>
              </a:lnSpc>
              <a:tabLst>
                <a:tab algn="l" pos="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1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Nadine BOGELMANN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3" marL="1908000" indent="-1641240" algn="just">
              <a:lnSpc>
                <a:spcPct val="96000"/>
              </a:lnSpc>
              <a:tabLst>
                <a:tab algn="l" pos="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1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Partner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3" marL="1908000" indent="-1641240" algn="just">
              <a:lnSpc>
                <a:spcPct val="96000"/>
              </a:lnSpc>
              <a:tabLst>
                <a:tab algn="l" pos="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100" spc="-1" strike="noStrike" u="sng">
                <a:solidFill>
                  <a:srgbClr val="ccccff"/>
                </a:solidFill>
                <a:uFillTx/>
                <a:latin typeface="Arial"/>
                <a:ea typeface="ＭＳ Ｐゴシック"/>
                <a:hlinkClick r:id="rId2"/>
              </a:rPr>
              <a:t>nadine.bogelmann@molitorlegal.lu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3" marL="1908000" indent="-1641240" algn="just">
              <a:lnSpc>
                <a:spcPct val="96000"/>
              </a:lnSpc>
              <a:tabLst>
                <a:tab algn="l" pos="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  <a:tab algn="l" pos="10296360"/>
                <a:tab algn="l" pos="10744200"/>
              </a:tabLst>
            </a:pPr>
            <a:r>
              <a:rPr b="0" lang="en-GB" sz="11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www.molitorlegal.lu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Picture 5" descr=""/>
          <p:cNvPicPr/>
          <p:nvPr/>
        </p:nvPicPr>
        <p:blipFill>
          <a:blip r:embed="rId3"/>
          <a:stretch/>
        </p:blipFill>
        <p:spPr>
          <a:xfrm>
            <a:off x="7340760" y="304920"/>
            <a:ext cx="2001600" cy="48888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4"/>
          <a:stretch/>
        </p:blipFill>
        <p:spPr>
          <a:xfrm>
            <a:off x="380880" y="228600"/>
            <a:ext cx="2781360" cy="557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5"/>
          <a:stretch/>
        </p:blipFill>
        <p:spPr>
          <a:xfrm>
            <a:off x="3519360" y="228600"/>
            <a:ext cx="596880" cy="538200"/>
          </a:xfrm>
          <a:prstGeom prst="rect">
            <a:avLst/>
          </a:prstGeom>
          <a:ln w="0">
            <a:noFill/>
          </a:ln>
        </p:spPr>
      </p:pic>
      <p:sp>
        <p:nvSpPr>
          <p:cNvPr id="327" name="Slide Number Placeholder 7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C1182A6C-D44B-484B-A41C-DDFFF5140BBE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INTRODUCTION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218960"/>
            <a:ext cx="890892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38088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81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7" descr="Screen shot 2012-09-06 at 11.15.46 AM.png"/>
          <p:cNvPicPr/>
          <p:nvPr/>
        </p:nvPicPr>
        <p:blipFill>
          <a:blip r:embed="rId2"/>
          <a:stretch/>
        </p:blipFill>
        <p:spPr>
          <a:xfrm>
            <a:off x="533520" y="5486400"/>
            <a:ext cx="1752480" cy="426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Screen shot 2012-09-06 at 11.15.29 AM.png"/>
          <p:cNvPicPr/>
          <p:nvPr/>
        </p:nvPicPr>
        <p:blipFill>
          <a:blip r:embed="rId3"/>
          <a:stretch/>
        </p:blipFill>
        <p:spPr>
          <a:xfrm>
            <a:off x="1981080" y="990720"/>
            <a:ext cx="5276880" cy="499104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8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09D88A04-A8F7-4F2D-81A3-34C1659E3E09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530280" y="1143000"/>
            <a:ext cx="8845560" cy="4734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609480" y="2819520"/>
            <a:ext cx="7239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8760" bIns="4284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23720"/>
                <a:tab algn="l" pos="849240"/>
                <a:tab algn="l" pos="1274760"/>
                <a:tab algn="l" pos="1700280"/>
                <a:tab algn="l" pos="2125800"/>
                <a:tab algn="l" pos="2550960"/>
                <a:tab algn="l" pos="2976480"/>
                <a:tab algn="l" pos="3402000"/>
                <a:tab algn="l" pos="3827520"/>
                <a:tab algn="l" pos="4253040"/>
                <a:tab algn="l" pos="4678200"/>
                <a:tab algn="l" pos="5103720"/>
                <a:tab algn="l" pos="5529240"/>
                <a:tab algn="l" pos="5954760"/>
                <a:tab algn="l" pos="6380280"/>
                <a:tab algn="l" pos="6805440"/>
                <a:tab algn="l" pos="7230960"/>
                <a:tab algn="l" pos="7656480"/>
                <a:tab algn="l" pos="8082000"/>
                <a:tab algn="l" pos="8507520"/>
                <a:tab algn="l" pos="8508960"/>
                <a:tab algn="l" pos="8934480"/>
                <a:tab algn="l" pos="9360000"/>
                <a:tab algn="l" pos="9785520"/>
                <a:tab algn="l" pos="10210680"/>
                <a:tab algn="l" pos="10636200"/>
              </a:tabLst>
            </a:pPr>
            <a:r>
              <a:rPr b="0" lang="fr-LU" sz="5100" spc="-1" strike="noStrike">
                <a:solidFill>
                  <a:srgbClr val="ff6600"/>
                </a:solidFill>
                <a:latin typeface="Arial"/>
              </a:rPr>
              <a:t>YOUR CUSTOMER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4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425DEC1B-2CD2-4A86-9FC5-8B02BCA4130E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3"/>
          <p:cNvSpPr/>
          <p:nvPr/>
        </p:nvSpPr>
        <p:spPr>
          <a:xfrm>
            <a:off x="685800" y="1143000"/>
            <a:ext cx="8763120" cy="4735440"/>
          </a:xfrm>
          <a:prstGeom prst="roundRect">
            <a:avLst>
              <a:gd name="adj" fmla="val 28"/>
            </a:avLst>
          </a:prstGeom>
          <a:solidFill>
            <a:srgbClr val="ff66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762120" y="2819520"/>
            <a:ext cx="7162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68760" bIns="42840" anchor="t">
            <a:noAutofit/>
          </a:bodyPr>
          <a:p>
            <a:pPr lvl="1" marL="1095480" indent="-714600">
              <a:lnSpc>
                <a:spcPct val="96000"/>
              </a:lnSpc>
              <a:tabLst>
                <a:tab algn="l" pos="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  <a:tab algn="l" pos="9401040"/>
                <a:tab algn="l" pos="9848880"/>
              </a:tabLst>
            </a:pPr>
            <a:r>
              <a:rPr b="0" lang="fr-FR" sz="4400" spc="-1" strike="noStrike">
                <a:solidFill>
                  <a:srgbClr val="660066"/>
                </a:solidFill>
                <a:latin typeface="Arial"/>
                <a:ea typeface="ＭＳ Ｐゴシック"/>
              </a:rPr>
              <a:t>A. MINIMISING THE RI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4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688FEF7-84DE-4AE0-B1E7-8B205277569E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908920" cy="11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USTOMER</a:t>
            </a:r>
            <a:br>
              <a:rPr sz="1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95360" y="228600"/>
            <a:ext cx="4076640" cy="58975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tabLst>
                <a:tab algn="l" pos="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buClr>
                <a:srgbClr val="ff6600"/>
              </a:buClr>
              <a:buFont typeface="Arial"/>
              <a:buAutoNum type="alphaUcPeriod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nimising th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age your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ow your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95480" indent="-714600" algn="just">
              <a:lnSpc>
                <a:spcPct val="96000"/>
              </a:lnSpc>
              <a:spcAft>
                <a:spcPts val="1074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ct val="96000"/>
              </a:lnSpc>
              <a:spcAft>
                <a:spcPts val="1349"/>
              </a:spcAft>
              <a:buClr>
                <a:srgbClr val="ff6600"/>
              </a:buClr>
              <a:buFont typeface="Times New Roman"/>
              <a:buChar char="•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57480" indent="-1257480" algn="just">
              <a:lnSpc>
                <a:spcPts val="1712"/>
              </a:lnSpc>
              <a:spcAft>
                <a:spcPts val="1349"/>
              </a:spcAft>
              <a:buClr>
                <a:srgbClr val="ff6600"/>
              </a:buClr>
              <a:buFont typeface="Arial"/>
              <a:buChar char="•"/>
              <a:tabLst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04920" y="914400"/>
            <a:ext cx="899136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Content Placeholder 10" descr="DOC280812.pdf"/>
          <p:cNvPicPr/>
          <p:nvPr/>
        </p:nvPicPr>
        <p:blipFill>
          <a:blip r:embed="rId2"/>
          <a:srcRect l="0" t="-18516" r="0" b="-18516"/>
          <a:stretch/>
        </p:blipFill>
        <p:spPr>
          <a:xfrm>
            <a:off x="4191120" y="1203480"/>
            <a:ext cx="5562360" cy="527364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7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1FEC02B8-7A35-4633-80B4-1D2926B04399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94708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6000"/>
              </a:lnSpc>
              <a:buNone/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0" lang="fr-FR" sz="2800" spc="-1" strike="noStrike">
                <a:solidFill>
                  <a:srgbClr val="ff6600"/>
                </a:solidFill>
                <a:latin typeface="Arial"/>
              </a:rPr>
              <a:t>THE CLIENT</a:t>
            </a: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91440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15480" bIns="0" anchor="t">
            <a:normAutofit/>
          </a:bodyPr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473120" indent="-714240" algn="just">
              <a:lnSpc>
                <a:spcPct val="96000"/>
              </a:lnSpc>
              <a:spcAft>
                <a:spcPts val="814"/>
              </a:spcAft>
              <a:buClr>
                <a:srgbClr val="ff6600"/>
              </a:buClr>
              <a:buFont typeface="Arial"/>
              <a:buAutoNum type="arabicPeriod"/>
              <a:tabLst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nage your cli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ystematic approac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Have formal methods and procedur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Use the tools you have put in pla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908000" indent="-714240" algn="just">
              <a:lnSpc>
                <a:spcPct val="96000"/>
              </a:lnSpc>
              <a:spcAft>
                <a:spcPts val="550"/>
              </a:spcAft>
              <a:buClr>
                <a:srgbClr val="ff6600"/>
              </a:buClr>
              <a:buFont typeface="Wingdings" charset="2"/>
              <a:buChar char=""/>
              <a:tabLst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  <a:tab algn="l" pos="8934480"/>
                <a:tab algn="l" pos="9360000"/>
                <a:tab algn="l" pos="9785520"/>
                <a:tab algn="l" pos="1021068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ver the client ris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6000"/>
              </a:lnSpc>
              <a:spcAft>
                <a:spcPts val="1349"/>
              </a:spcAft>
              <a:tabLst>
                <a:tab algn="l" pos="0"/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6000"/>
              </a:lnSpc>
              <a:spcAft>
                <a:spcPts val="1349"/>
              </a:spcAft>
              <a:buClr>
                <a:srgbClr val="ff6600"/>
              </a:buClr>
              <a:buFont typeface="Times New Roman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712"/>
              </a:lnSpc>
              <a:spcAft>
                <a:spcPts val="1349"/>
              </a:spcAft>
              <a:buClr>
                <a:srgbClr val="ff66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457200" y="914400"/>
            <a:ext cx="8991720" cy="144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8491680" y="326880"/>
            <a:ext cx="976320" cy="238320"/>
          </a:xfrm>
          <a:prstGeom prst="rect">
            <a:avLst/>
          </a:prstGeom>
          <a:ln w="0">
            <a:noFill/>
          </a:ln>
        </p:spPr>
      </p:pic>
      <p:sp>
        <p:nvSpPr>
          <p:cNvPr id="104" name="Line 6"/>
          <p:cNvSpPr/>
          <p:nvPr/>
        </p:nvSpPr>
        <p:spPr>
          <a:xfrm>
            <a:off x="530280" y="6041880"/>
            <a:ext cx="8991720" cy="1800"/>
          </a:xfrm>
          <a:prstGeom prst="line">
            <a:avLst/>
          </a:prstGeom>
          <a:ln w="9360">
            <a:solidFill>
              <a:srgbClr val="ff66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6"/>
          <p:cNvSpPr/>
          <p:nvPr/>
        </p:nvSpPr>
        <p:spPr>
          <a:xfrm>
            <a:off x="7102440" y="6246720"/>
            <a:ext cx="2303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96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2473B7CA-493A-4C9C-85E8-F359AF04E2B3}" type="slidenum">
              <a:rPr b="0" lang="fr-LU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10:19:49Z</dcterms:created>
  <dc:creator/>
  <dc:description/>
  <cp:keywords/>
  <dc:language>en-US</dc:language>
  <cp:lastModifiedBy>Philip Medhurst</cp:lastModifiedBy>
  <cp:lastPrinted>2012-09-10T10:32:41Z</cp:lastPrinted>
  <dcterms:modified xsi:type="dcterms:W3CDTF">2012-09-29T09:57:58Z</dcterms:modified>
  <cp:revision>263</cp:revision>
  <dc:subject/>
  <dc:title>Présentation PowerPoint</dc:title>
</cp:coreProperties>
</file>