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F7C-561A-45F0-B20B-4B76C66B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456-1896-40BA-9633-AAFAFDD0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236-3555-4936-931F-393E4BD6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80C-FE77-4017-9B09-B963967B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2F89-2A85-4122-8156-36DE1538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33D8-6579-491E-8055-207880D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E47-6AC2-4866-962C-1BC53BD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C29-176C-4FE4-B5C7-1852968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F450-8678-4651-8A84-2E0C78A1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5896-CAB3-4758-AA60-7E1548C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A83E-4DDE-494D-86FD-9E08199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F5C-2700-4383-B3C4-F6E387DE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88E-C928-4972-B9B4-0243395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D3B-F133-4B52-BFDC-B1C4FCF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63F-5CC7-4637-98E6-38B9034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4DF4-B995-4BB5-9C13-7DE97E35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E547-F88D-4F92-A238-20668022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F0962-4997-47D4-AC9A-9358FFD4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1883C-BA70-4B75-8C00-40054C9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240BE-F63F-4AF5-8FD7-BDE8B88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A1A4F-3DBE-4C47-9C0A-179EFB5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AEC58-061A-49BB-A9FE-4D82162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787-7805-4D89-8ACB-972A4A46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C2A5F-5D88-492C-B145-1DC9359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E55FB-991F-48D8-A421-BB9E5B4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389F5-B63A-4204-8232-4E09A52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AEF4-8E67-4370-A876-36D91A62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842C3-D248-45F3-B5D1-03375296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F889F-CD86-4510-9284-C8DAF07B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7E293-5EC0-487C-804F-9EC127DD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0E56-99A9-4ACF-B9ED-35481F5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3117-5119-4B87-AA27-552753EA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B4C5-51B5-435E-9F2A-F87028E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682-66C6-4EAC-8B38-8D52176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293F-129F-449F-AFE2-08B81FF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26F9-B339-44A2-B2F3-A71C5DA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7A8F-CC1B-45A5-9AA2-5B5DC5AD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6D61-8814-4A78-AFF9-BC43BD3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B12D-12AC-44B6-AF09-0B52DD6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F779-7844-4B72-A16A-C71AE99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4C00-064A-4668-86FA-375E920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52BF-DEBC-4F98-90E0-92306F37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E0E3-6010-4B52-94BC-925BEB58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7B5-3667-4D43-8488-F1C9706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AC8-0346-4D3E-87A7-511E967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895-DEA6-4770-B209-46734C4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589-10DE-451D-BF4D-E42E7C1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1A3-115E-4365-9261-A4302B4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451-EF81-425C-97ED-2FE5A821A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39E6-27EB-4EE9-A869-A12E8A0071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03AC-423D-4EC5-970D-6910F07822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54F6-8262-4BE3-BBCC-39670439B7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ocial Media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or Students and Job Seek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-990720" y="380880"/>
            <a:ext cx="116776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Job Sear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compa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eeps you inform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ads to intera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ome a part of their convers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mpanies will noti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tilize your Ne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ked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verse with peop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 not ask for a job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Media is invalu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a unique personal br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act with compa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re no longer just a resu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 has changed-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we communic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o we can communicate wi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 Sites I u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farm4.staticflickr.com/3379/3638204140_e955a8f4a3_z.jpg?zz=1"/>
          <p:cNvPicPr/>
          <p:nvPr/>
        </p:nvPicPr>
        <p:blipFill>
          <a:blip r:embed="rId2"/>
          <a:stretch/>
        </p:blipFill>
        <p:spPr>
          <a:xfrm>
            <a:off x="3409920" y="2362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wku.edu/transportation/images/facebooklogo.jpg"/>
          <p:cNvPicPr/>
          <p:nvPr/>
        </p:nvPicPr>
        <p:blipFill>
          <a:blip r:embed="rId3"/>
          <a:stretch/>
        </p:blipFill>
        <p:spPr>
          <a:xfrm>
            <a:off x="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a.abcnews.com/images/Technology/ht_youtube_logo_mi_130129_wblog.jpg"/>
          <p:cNvPicPr/>
          <p:nvPr/>
        </p:nvPicPr>
        <p:blipFill>
          <a:blip r:embed="rId4"/>
          <a:stretch/>
        </p:blipFill>
        <p:spPr>
          <a:xfrm>
            <a:off x="857160" y="3890880"/>
            <a:ext cx="3333960" cy="1876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s.wordpress.org/about/images/logos/wordpress-logo-stacked-rgb.png"/>
          <p:cNvPicPr/>
          <p:nvPr/>
        </p:nvPicPr>
        <p:blipFill>
          <a:blip r:embed="rId5"/>
          <a:stretch/>
        </p:blipFill>
        <p:spPr>
          <a:xfrm>
            <a:off x="4857840" y="2400480"/>
            <a:ext cx="3647880" cy="22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1.bp.blogspot.com/-aId7FpTg19w/T4uEuGqRq2I/AAAAAAAAbAM/vA2noue4N4g/s1600/GooglePlus.png"/>
          <p:cNvPicPr/>
          <p:nvPr/>
        </p:nvPicPr>
        <p:blipFill>
          <a:blip r:embed="rId6"/>
          <a:stretch/>
        </p:blipFill>
        <p:spPr>
          <a:xfrm>
            <a:off x="4495680" y="482904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I start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book-20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portunities and Drawbac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 years of 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Priv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usually be seen by someone uninten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kinds of Stud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Parti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Serious Job Seek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avy drinking in pi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uses about being drunk, blacked out or hung ov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gative im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icer pi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build their personal bra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itive image of themselv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uniquely distinguishable, and ideally memorable, impression from your social media prese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uild your 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with Faceb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ictur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bb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ke privat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eep up to dat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a professional pic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uild your Personal Bra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ogle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reat for discus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oogle sear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bsite or Bl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with sear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mpres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2:36Z</dcterms:created>
  <dc:creator>Dan</dc:creator>
  <dc:description/>
  <dc:language>en-US</dc:language>
  <cp:lastModifiedBy>Sophie Kerschen</cp:lastModifiedBy>
  <dcterms:modified xsi:type="dcterms:W3CDTF">2013-04-24T11:08:18Z</dcterms:modified>
  <cp:revision>13</cp:revision>
  <dc:subject/>
  <dc:title>PowerPoint Presentation</dc:title>
</cp:coreProperties>
</file>