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594-371F-4148-8C73-C4DB67D2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C31-C0B8-499C-A53E-361A327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BA9-481B-4478-8B86-2BD50155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F45-8F19-4AA4-B328-7922690D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928-1D95-479D-9753-B7B2DCC7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185E-93C8-4E95-BB15-CD03D8B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6A58-C919-4320-A76C-7B09C6E9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E64-7420-4838-8F9F-D493F00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C931-1DBD-4893-BFCB-AB1C248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DEF6-ADBE-4882-907D-BFE8CA57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663-DD15-4EBD-8D0B-F0868CD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B05-2BCC-4E13-83D6-52B1902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F78A-7ADE-4612-B828-D84D382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7CC-2374-4584-A399-95EC4DD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6C3-6D91-469D-9D36-4E2579B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1C5-AA9D-47CD-A55D-0A1C1E26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3E2-84D0-495C-AD06-5EDB97D6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E52B7-6F19-4279-8949-8E8CB37C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EEE23-CC37-4027-9DE7-240FA66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9FE8C-D033-4DAA-9284-85326F3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91913-1C09-4D58-914A-90DCA57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2E66A-F915-42A3-A0C1-B85A6D6B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F12-5B1F-46AB-BE7B-573BC72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3BCDA-6EEB-4618-9B9A-8CCFAA6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98BE7-DD2A-4416-BEF9-7DD8B5B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EF83C-E87B-4D8B-BAB2-7FCEF288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BA5C1-3FD5-4BF6-AADF-4D4C71F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5D2AA-C1B0-4470-BDCA-C6BFD1A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FDC5C-A338-4CB1-99B0-0829B6F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ECE1E-EB65-47F8-9270-DBFB92BC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5DCD-0D1C-4CB8-B33F-27EEC170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5437-BAF7-4890-B56C-E4E2DB9E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0B4D-7C1A-4344-85BE-CEFDAAA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440-1348-4B53-A7C3-F21600D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9F71-59C5-45CD-AB37-F85FCDB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DD71-EEAA-4982-BB24-7D23F1D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03F9-08AD-4504-BECC-DAF3FB8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3345-09BB-4260-93BF-8A40933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57E8-A1FA-48BB-A961-7D7586F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E3F1-137C-4B4B-A6EF-AF33C14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0DBC-275A-4B64-A0F2-24038957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2970-F651-480D-B5B7-D30214A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CED5-259B-408D-B535-11831F44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4D9-1FBA-4A4A-83CB-73C4C9D4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F13-20B7-4C09-A8EC-03B0784B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8DE-962B-406D-80F7-D8843EB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557-3C4E-4C14-A6A3-F1249E5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B6D-3109-43B3-86EC-5254459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326-0159-4240-8A11-4C2AE8DA27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E8EA-0B74-4BA6-997D-C842D75603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0BB-8109-4310-AEB7-5A5CA6FB3F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F98-3A0B-41F1-88EA-56F3555D3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ocial Media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or Students and Job Seek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-990720" y="380880"/>
            <a:ext cx="116776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Job Sear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compa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eeps you inform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ads to intera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ome a part of their convers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mpanies will noti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tilize your Ne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ked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verse with peop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 not ask for a job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Media is invalu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a unique personal br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act with compa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re no longer just a resu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 has changed-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we communic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o we can communicate wi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 Sites I u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farm4.staticflickr.com/3379/3638204140_e955a8f4a3_z.jpg?zz=1"/>
          <p:cNvPicPr/>
          <p:nvPr/>
        </p:nvPicPr>
        <p:blipFill>
          <a:blip r:embed="rId2"/>
          <a:stretch/>
        </p:blipFill>
        <p:spPr>
          <a:xfrm>
            <a:off x="3409920" y="2362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wku.edu/transportation/images/facebooklogo.jpg"/>
          <p:cNvPicPr/>
          <p:nvPr/>
        </p:nvPicPr>
        <p:blipFill>
          <a:blip r:embed="rId3"/>
          <a:stretch/>
        </p:blipFill>
        <p:spPr>
          <a:xfrm>
            <a:off x="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a.abcnews.com/images/Technology/ht_youtube_logo_mi_130129_wblog.jpg"/>
          <p:cNvPicPr/>
          <p:nvPr/>
        </p:nvPicPr>
        <p:blipFill>
          <a:blip r:embed="rId4"/>
          <a:stretch/>
        </p:blipFill>
        <p:spPr>
          <a:xfrm>
            <a:off x="857160" y="3890880"/>
            <a:ext cx="3333960" cy="1876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s.wordpress.org/about/images/logos/wordpress-logo-stacked-rgb.png"/>
          <p:cNvPicPr/>
          <p:nvPr/>
        </p:nvPicPr>
        <p:blipFill>
          <a:blip r:embed="rId5"/>
          <a:stretch/>
        </p:blipFill>
        <p:spPr>
          <a:xfrm>
            <a:off x="4857840" y="2400480"/>
            <a:ext cx="3647880" cy="22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1.bp.blogspot.com/-aId7FpTg19w/T4uEuGqRq2I/AAAAAAAAbAM/vA2noue4N4g/s1600/GooglePlus.png"/>
          <p:cNvPicPr/>
          <p:nvPr/>
        </p:nvPicPr>
        <p:blipFill>
          <a:blip r:embed="rId6"/>
          <a:stretch/>
        </p:blipFill>
        <p:spPr>
          <a:xfrm>
            <a:off x="4495680" y="482904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I start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book-20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portunities and Drawbac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 years of 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Priv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usually be seen by someone uninten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kinds of Stud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Parti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Serious Job Seek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avy drinking in pi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uses about being drunk, blacked out or hung ov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gative im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icer pi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build their personal bra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itive image of themselv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uniquely distinguishable, and ideally memorable, impression from your social media prese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uild your 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with Faceb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ictur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bb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ke privat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eep up to dat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a professional pic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uild your 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ogle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reat for discus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oogle sear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bsite or Bl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with sear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mpres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2:36Z</dcterms:created>
  <dc:creator>Dan</dc:creator>
  <dc:description/>
  <dc:language>en-US</dc:language>
  <cp:lastModifiedBy>Sophie Kerschen</cp:lastModifiedBy>
  <dcterms:modified xsi:type="dcterms:W3CDTF">2013-04-24T11:08:18Z</dcterms:modified>
  <cp:revision>13</cp:revision>
  <dc:subject/>
  <dc:title>PowerPoint Presentation</dc:title>
</cp:coreProperties>
</file>