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L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4B8840-2FCC-4BFB-8E6B-1821BB80256F}" type="datetime">
              <a:rPr b="0" lang="fr-LU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0D3A2E-449A-4768-BEA1-D5D8938E1A1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34290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L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172439-48EE-42E8-B0B5-B5B2DBBC89B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34290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96B5C8-82A3-4D68-839D-DA4A8816ABA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05D3F1-3CA0-410B-A24D-DFC1E75232C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D9B6F3-2C34-48C4-A324-B2B19629614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L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4247F1-5E0E-4DB8-A112-4C93118D0AB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A3AB-098C-4BEE-84E8-455B9F412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61B2-5C36-403F-9C4D-80D55EA2F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1B0D-A15F-4DF7-88A9-9E2B7468C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714A-AACC-46C5-9713-9A882ECC7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383E-496C-4F11-ACA3-0325E75CF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B000-452A-47B7-BF43-AFF392D85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163B-C7A0-4D2F-BFFF-D46329CA4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8439-6AD3-4BC9-BFA0-19E80F6B4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8F14-91C4-425C-B1C5-D70C5BB1C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49DD-4CE4-4C50-B9AE-0D272AA0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CF18-F545-4708-851C-945C5330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C33B-9FF9-4114-853B-D116ACA8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L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E7DE8D-DF64-4E02-90F9-E624FD1A036D}" type="datetime">
              <a:rPr b="0" lang="fr-LU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4466C3-F875-4EA2-BBB8-C2F285DADD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dvenkatapen@wagenerlegal.lu" TargetMode="External"/><Relationship Id="rId2" Type="http://schemas.openxmlformats.org/officeDocument/2006/relationships/hyperlink" Target="mailto:christophe.joosen@nautadutilh.com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Espace réservé du pied de page 3"/>
          <p:cNvSpPr/>
          <p:nvPr/>
        </p:nvSpPr>
        <p:spPr>
          <a:xfrm>
            <a:off x="0" y="5900760"/>
            <a:ext cx="9144000" cy="9493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Espace réservé du numéro de diapositive 6"/>
          <p:cNvSpPr/>
          <p:nvPr/>
        </p:nvSpPr>
        <p:spPr>
          <a:xfrm>
            <a:off x="6553080" y="617364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241455-4E7A-4DB2-B263-205EA62E58C2}" type="slidenum">
              <a:rPr b="0" lang="fr-FR" sz="1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1126800"/>
            <a:ext cx="7772400" cy="3305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EXCHANGE OF INFORMATION BETWEEN LUXEMBOURG AND FOREIGN TAX ADMINISTR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C:\Users\jonathannorman\AppData\Local\Microsoft\Windows\Temporary Internet Files\Content.Outlook\MWWEO8CA\BCC Luxembourg_LOGO_RGB (2).jpg"/>
          <p:cNvPicPr/>
          <p:nvPr/>
        </p:nvPicPr>
        <p:blipFill>
          <a:blip r:embed="rId1"/>
          <a:stretch/>
        </p:blipFill>
        <p:spPr>
          <a:xfrm>
            <a:off x="3279600" y="6058080"/>
            <a:ext cx="2600640" cy="4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Espace réservé du pied de page 3"/>
          <p:cNvSpPr/>
          <p:nvPr/>
        </p:nvSpPr>
        <p:spPr>
          <a:xfrm>
            <a:off x="0" y="5900760"/>
            <a:ext cx="9144000" cy="9493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Espace réservé du numéro de diapositive 6"/>
          <p:cNvSpPr/>
          <p:nvPr/>
        </p:nvSpPr>
        <p:spPr>
          <a:xfrm>
            <a:off x="6553080" y="617364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3C40C3-A1B3-4DF0-9119-331289E56F6C}" type="slidenum">
              <a:rPr b="0" lang="fr-FR" sz="1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Content Placeholder 5" descr=""/>
          <p:cNvPicPr/>
          <p:nvPr/>
        </p:nvPicPr>
        <p:blipFill>
          <a:blip r:embed="rId1"/>
          <a:stretch/>
        </p:blipFill>
        <p:spPr>
          <a:xfrm>
            <a:off x="1096920" y="835200"/>
            <a:ext cx="722628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C:\Users\jonathannorman\AppData\Local\Microsoft\Windows\Temporary Internet Files\Content.Outlook\MWWEO8CA\BCC Luxembourg_LOGO_RGB (2).jpg"/>
          <p:cNvPicPr/>
          <p:nvPr/>
        </p:nvPicPr>
        <p:blipFill>
          <a:blip r:embed="rId2"/>
          <a:stretch/>
        </p:blipFill>
        <p:spPr>
          <a:xfrm>
            <a:off x="3309840" y="6056280"/>
            <a:ext cx="2600280" cy="4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L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torical 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38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L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5: international initiatives to reinforce exchange of information to avoid / prevent tax frau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L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5-2012: expansion of the scope of exchange of inform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2B035D-C7DA-4001-AA0F-B23869C0C6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Espace réservé du pied de page 3"/>
          <p:cNvSpPr/>
          <p:nvPr/>
        </p:nvSpPr>
        <p:spPr>
          <a:xfrm>
            <a:off x="0" y="5842080"/>
            <a:ext cx="9144000" cy="10159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Espace réservé du numéro de diapositive 6"/>
          <p:cNvSpPr/>
          <p:nvPr/>
        </p:nvSpPr>
        <p:spPr>
          <a:xfrm>
            <a:off x="6553080" y="617364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01290A-5329-4822-8ABD-0BD6B1B04467}" type="slidenum">
              <a:rPr b="0" lang="fr-FR" sz="1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6" descr="C:\Users\jonathannorman\AppData\Local\Microsoft\Windows\Temporary Internet Files\Content.Outlook\MWWEO8CA\BCC Luxembourg_LOGO_RGB (2).jpg"/>
          <p:cNvPicPr/>
          <p:nvPr/>
        </p:nvPicPr>
        <p:blipFill>
          <a:blip r:embed="rId1"/>
          <a:stretch/>
        </p:blipFill>
        <p:spPr>
          <a:xfrm>
            <a:off x="3281400" y="6058080"/>
            <a:ext cx="2600280" cy="4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4604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L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GENERAL PROCEDURE FORESEEN BY DOUBLE TAX TREA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Content Placeholder 2"/>
          <p:cNvSpPr/>
          <p:nvPr/>
        </p:nvSpPr>
        <p:spPr>
          <a:xfrm>
            <a:off x="1163520" y="1901880"/>
            <a:ext cx="73249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141560" indent="-1141560">
              <a:lnSpc>
                <a:spcPct val="100000"/>
              </a:lnSpc>
              <a:tabLst>
                <a:tab algn="l" pos="0"/>
                <a:tab algn="l" pos="71136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Espace réservé du pied de page 3"/>
          <p:cNvSpPr/>
          <p:nvPr/>
        </p:nvSpPr>
        <p:spPr>
          <a:xfrm>
            <a:off x="0" y="5908680"/>
            <a:ext cx="9144000" cy="9493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Espace réservé du numéro de diapositive 6"/>
          <p:cNvSpPr/>
          <p:nvPr/>
        </p:nvSpPr>
        <p:spPr>
          <a:xfrm>
            <a:off x="6553080" y="617364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26B8F4-3503-4DCF-B37B-3736D112564A}" type="slidenum">
              <a:rPr b="0" lang="fr-FR" sz="1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ounded Rectangle 13"/>
          <p:cNvSpPr/>
          <p:nvPr/>
        </p:nvSpPr>
        <p:spPr>
          <a:xfrm>
            <a:off x="876240" y="1263600"/>
            <a:ext cx="2136960" cy="889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a99"/>
              </a:gs>
              <a:gs pos="100000">
                <a:srgbClr val="d1403c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L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Director of Luxembourg Tax Adminis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ounded Rectangle 18"/>
          <p:cNvSpPr/>
          <p:nvPr/>
        </p:nvSpPr>
        <p:spPr>
          <a:xfrm>
            <a:off x="6773760" y="3459240"/>
            <a:ext cx="193212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a99"/>
              </a:gs>
              <a:gs pos="100000">
                <a:srgbClr val="d1403c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L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Administrative Tribu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ounded Rectangle 20"/>
          <p:cNvSpPr/>
          <p:nvPr/>
        </p:nvSpPr>
        <p:spPr>
          <a:xfrm>
            <a:off x="5167440" y="1263600"/>
            <a:ext cx="2833560" cy="822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L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Company / Ba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ounded Rectangle 21"/>
          <p:cNvSpPr/>
          <p:nvPr/>
        </p:nvSpPr>
        <p:spPr>
          <a:xfrm>
            <a:off x="490680" y="4541760"/>
            <a:ext cx="2808000" cy="655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L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Foreign Tax Adminis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0" name="Straight Arrow Connector 37"/>
          <p:cNvCxnSpPr/>
          <p:nvPr/>
        </p:nvCxnSpPr>
        <p:spPr>
          <a:xfrm>
            <a:off x="5178240" y="2269800"/>
            <a:ext cx="1080" cy="818280"/>
          </a:xfrm>
          <a:prstGeom prst="straightConnector1">
            <a:avLst/>
          </a:prstGeom>
          <a:ln w="25560">
            <a:solidFill>
              <a:srgbClr val="17375e"/>
            </a:solidFill>
            <a:miter/>
            <a:tailEnd len="med" type="arrow" w="med"/>
          </a:ln>
        </p:spPr>
      </p:cxnSp>
      <p:sp>
        <p:nvSpPr>
          <p:cNvPr id="71" name="TextBox 46"/>
          <p:cNvSpPr/>
          <p:nvPr/>
        </p:nvSpPr>
        <p:spPr>
          <a:xfrm>
            <a:off x="3276720" y="1792440"/>
            <a:ext cx="1749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LU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Administrative  decision for information reque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Straight Arrow Connector 32"/>
          <p:cNvCxnSpPr/>
          <p:nvPr/>
        </p:nvCxnSpPr>
        <p:spPr>
          <a:xfrm>
            <a:off x="3298680" y="1660320"/>
            <a:ext cx="1578960" cy="1080"/>
          </a:xfrm>
          <a:prstGeom prst="straightConnector1">
            <a:avLst/>
          </a:prstGeom>
          <a:ln w="25560">
            <a:solidFill>
              <a:srgbClr val="17375e"/>
            </a:solidFill>
            <a:miter/>
            <a:tailEnd len="med" type="arrow" w="med"/>
          </a:ln>
        </p:spPr>
      </p:cxnSp>
      <p:sp>
        <p:nvSpPr>
          <p:cNvPr id="73" name="TextBox 48"/>
          <p:cNvSpPr/>
          <p:nvPr/>
        </p:nvSpPr>
        <p:spPr>
          <a:xfrm>
            <a:off x="1547640" y="2649600"/>
            <a:ext cx="172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Information request regarding tax pay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49"/>
          <p:cNvSpPr/>
          <p:nvPr/>
        </p:nvSpPr>
        <p:spPr>
          <a:xfrm>
            <a:off x="5268960" y="2317680"/>
            <a:ext cx="172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fr-LU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Option 1</a:t>
            </a:r>
            <a:r>
              <a:rPr b="0" i="1" lang="fr-LU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: </a:t>
            </a:r>
            <a:r>
              <a:rPr b="0" i="1" lang="en-GB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Provide information within 1 month*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5" name="Straight Arrow Connector 76"/>
          <p:cNvCxnSpPr/>
          <p:nvPr/>
        </p:nvCxnSpPr>
        <p:spPr>
          <a:xfrm flipV="1">
            <a:off x="1163160" y="2649240"/>
            <a:ext cx="1080" cy="1621440"/>
          </a:xfrm>
          <a:prstGeom prst="straightConnector1">
            <a:avLst/>
          </a:prstGeom>
          <a:ln w="25560">
            <a:solidFill>
              <a:srgbClr val="17375e"/>
            </a:solidFill>
            <a:miter/>
            <a:tailEnd len="med" type="arrow" w="med"/>
          </a:ln>
        </p:spPr>
      </p:cxnSp>
      <p:sp>
        <p:nvSpPr>
          <p:cNvPr id="76" name="Rounded Rectangle 18"/>
          <p:cNvSpPr/>
          <p:nvPr/>
        </p:nvSpPr>
        <p:spPr>
          <a:xfrm>
            <a:off x="4656240" y="3298680"/>
            <a:ext cx="1927080" cy="1047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a99"/>
              </a:gs>
              <a:gs pos="100000">
                <a:srgbClr val="d1403c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L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Director of Luxembourg Tax Adminis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7" name="Straight Arrow Connector 37"/>
          <p:cNvCxnSpPr/>
          <p:nvPr/>
        </p:nvCxnSpPr>
        <p:spPr>
          <a:xfrm>
            <a:off x="7160760" y="2317320"/>
            <a:ext cx="1080" cy="818280"/>
          </a:xfrm>
          <a:prstGeom prst="straightConnector1">
            <a:avLst/>
          </a:prstGeom>
          <a:ln w="25560">
            <a:solidFill>
              <a:srgbClr val="17375e"/>
            </a:solidFill>
            <a:miter/>
            <a:tailEnd len="med" type="arrow" w="med"/>
          </a:ln>
        </p:spPr>
      </p:cxnSp>
      <p:sp>
        <p:nvSpPr>
          <p:cNvPr id="78" name="TextBox 49"/>
          <p:cNvSpPr/>
          <p:nvPr/>
        </p:nvSpPr>
        <p:spPr>
          <a:xfrm>
            <a:off x="7429680" y="2317680"/>
            <a:ext cx="1496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Option 2</a:t>
            </a:r>
            <a:r>
              <a:rPr b="0" i="1" lang="en-GB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: claim within 1 month (bank or  taxpayer)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49"/>
          <p:cNvSpPr/>
          <p:nvPr/>
        </p:nvSpPr>
        <p:spPr>
          <a:xfrm>
            <a:off x="1398600" y="3173400"/>
            <a:ext cx="3005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Examples of information requests: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   </a:t>
            </a:r>
            <a:r>
              <a:rPr b="0" i="1" lang="en-GB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Bank account hold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   </a:t>
            </a:r>
            <a:r>
              <a:rPr b="0" i="1" lang="en-GB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beneficial owner of bank accou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0" name="Straight Arrow Connector 37"/>
          <p:cNvCxnSpPr/>
          <p:nvPr/>
        </p:nvCxnSpPr>
        <p:spPr>
          <a:xfrm>
            <a:off x="7160760" y="4346280"/>
            <a:ext cx="1080" cy="515160"/>
          </a:xfrm>
          <a:prstGeom prst="straightConnector1">
            <a:avLst/>
          </a:prstGeom>
          <a:ln w="25560">
            <a:solidFill>
              <a:srgbClr val="17375e"/>
            </a:solidFill>
            <a:miter/>
            <a:tailEnd len="med" type="arrow" w="med"/>
          </a:ln>
        </p:spPr>
      </p:cxnSp>
      <p:sp>
        <p:nvSpPr>
          <p:cNvPr id="81" name="Rounded Rectangle 18"/>
          <p:cNvSpPr/>
          <p:nvPr/>
        </p:nvSpPr>
        <p:spPr>
          <a:xfrm>
            <a:off x="6754680" y="5118120"/>
            <a:ext cx="193212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a99"/>
              </a:gs>
              <a:gs pos="100000">
                <a:srgbClr val="d1403c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L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Administrative Cou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49"/>
          <p:cNvSpPr/>
          <p:nvPr/>
        </p:nvSpPr>
        <p:spPr>
          <a:xfrm>
            <a:off x="7251840" y="4389480"/>
            <a:ext cx="149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LU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appeal procedu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48"/>
          <p:cNvSpPr/>
          <p:nvPr/>
        </p:nvSpPr>
        <p:spPr>
          <a:xfrm>
            <a:off x="4656240" y="4389480"/>
            <a:ext cx="23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LU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*fine up to EUR 250,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6" descr="C:\Users\jonathannorman\AppData\Local\Microsoft\Windows\Temporary Internet Files\Content.Outlook\MWWEO8CA\BCC Luxembourg_LOGO_RGB (2).jpg"/>
          <p:cNvPicPr/>
          <p:nvPr/>
        </p:nvPicPr>
        <p:blipFill>
          <a:blip r:embed="rId1"/>
          <a:stretch/>
        </p:blipFill>
        <p:spPr>
          <a:xfrm>
            <a:off x="3227400" y="6051600"/>
            <a:ext cx="2598840" cy="48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4604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L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ASE STUDY 1: Court of Appeal 24 May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Content Placeholder 2"/>
          <p:cNvSpPr/>
          <p:nvPr/>
        </p:nvSpPr>
        <p:spPr>
          <a:xfrm>
            <a:off x="1163520" y="1901880"/>
            <a:ext cx="73249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141560" indent="-1141560">
              <a:lnSpc>
                <a:spcPct val="100000"/>
              </a:lnSpc>
              <a:tabLst>
                <a:tab algn="l" pos="0"/>
                <a:tab algn="l" pos="71136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Espace réservé du pied de page 3"/>
          <p:cNvSpPr/>
          <p:nvPr/>
        </p:nvSpPr>
        <p:spPr>
          <a:xfrm>
            <a:off x="0" y="5908680"/>
            <a:ext cx="9144000" cy="9493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Espace réservé du numéro de diapositive 6"/>
          <p:cNvSpPr/>
          <p:nvPr/>
        </p:nvSpPr>
        <p:spPr>
          <a:xfrm>
            <a:off x="6553080" y="617364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2332E3-9084-4690-83F7-95A2A1216A2D}" type="slidenum">
              <a:rPr b="0" lang="fr-FR" sz="1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ounded Rectangle 13"/>
          <p:cNvSpPr/>
          <p:nvPr/>
        </p:nvSpPr>
        <p:spPr>
          <a:xfrm>
            <a:off x="825480" y="1249200"/>
            <a:ext cx="2136960" cy="890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a99"/>
              </a:gs>
              <a:gs pos="100000">
                <a:srgbClr val="d1403c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L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Director of Luxembourg Tax Adminis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ounded Rectangle 18"/>
          <p:cNvSpPr/>
          <p:nvPr/>
        </p:nvSpPr>
        <p:spPr>
          <a:xfrm>
            <a:off x="5805360" y="3108240"/>
            <a:ext cx="193356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a99"/>
              </a:gs>
              <a:gs pos="100000">
                <a:srgbClr val="d1403c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L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Administrative Tribu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ounded Rectangle 20"/>
          <p:cNvSpPr/>
          <p:nvPr/>
        </p:nvSpPr>
        <p:spPr>
          <a:xfrm>
            <a:off x="5307120" y="1222200"/>
            <a:ext cx="2833560" cy="822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L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Luxembourg Ba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ounded Rectangle 21"/>
          <p:cNvSpPr/>
          <p:nvPr/>
        </p:nvSpPr>
        <p:spPr>
          <a:xfrm>
            <a:off x="392040" y="3840120"/>
            <a:ext cx="280836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Swedish Tax Adminis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46"/>
          <p:cNvSpPr/>
          <p:nvPr/>
        </p:nvSpPr>
        <p:spPr>
          <a:xfrm>
            <a:off x="3200400" y="1895400"/>
            <a:ext cx="1584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Administrative  decision for information reque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4" name="Straight Arrow Connector 32"/>
          <p:cNvCxnSpPr/>
          <p:nvPr/>
        </p:nvCxnSpPr>
        <p:spPr>
          <a:xfrm>
            <a:off x="3402000" y="1625400"/>
            <a:ext cx="1224720" cy="1080"/>
          </a:xfrm>
          <a:prstGeom prst="straightConnector1">
            <a:avLst/>
          </a:prstGeom>
          <a:ln w="25560">
            <a:solidFill>
              <a:srgbClr val="17375e"/>
            </a:solidFill>
            <a:miter/>
            <a:tailEnd len="med" type="arrow" w="med"/>
          </a:ln>
        </p:spPr>
      </p:cxnSp>
      <p:sp>
        <p:nvSpPr>
          <p:cNvPr id="95" name="TextBox 48"/>
          <p:cNvSpPr/>
          <p:nvPr/>
        </p:nvSpPr>
        <p:spPr>
          <a:xfrm>
            <a:off x="1600200" y="3025800"/>
            <a:ext cx="1727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Information request regarding Malaysian Company (tax payer</a:t>
            </a:r>
            <a:r>
              <a:rPr b="0" i="1" lang="fr-LU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76"/>
          <p:cNvCxnSpPr/>
          <p:nvPr/>
        </p:nvCxnSpPr>
        <p:spPr>
          <a:xfrm flipV="1">
            <a:off x="1599840" y="2498040"/>
            <a:ext cx="1080" cy="1251720"/>
          </a:xfrm>
          <a:prstGeom prst="straightConnector1">
            <a:avLst/>
          </a:prstGeom>
          <a:ln w="25560">
            <a:solidFill>
              <a:srgbClr val="17375e"/>
            </a:solidFill>
            <a:miter/>
            <a:tailEnd len="med" type="arrow" w="med"/>
          </a:ln>
        </p:spPr>
      </p:cxnSp>
      <p:cxnSp>
        <p:nvCxnSpPr>
          <p:cNvPr id="97" name="Straight Arrow Connector 37"/>
          <p:cNvCxnSpPr/>
          <p:nvPr/>
        </p:nvCxnSpPr>
        <p:spPr>
          <a:xfrm>
            <a:off x="6771960" y="2139480"/>
            <a:ext cx="1080" cy="818280"/>
          </a:xfrm>
          <a:prstGeom prst="straightConnector1">
            <a:avLst/>
          </a:prstGeom>
          <a:ln w="25560">
            <a:solidFill>
              <a:srgbClr val="17375e"/>
            </a:solidFill>
            <a:miter/>
            <a:tailEnd len="med" type="arrow" w="med"/>
          </a:ln>
        </p:spPr>
      </p:cxnSp>
      <p:sp>
        <p:nvSpPr>
          <p:cNvPr id="98" name="TextBox 49"/>
          <p:cNvSpPr/>
          <p:nvPr/>
        </p:nvSpPr>
        <p:spPr>
          <a:xfrm>
            <a:off x="7391520" y="2219400"/>
            <a:ext cx="1496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LU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Claim (by Malaysian Company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49"/>
          <p:cNvSpPr/>
          <p:nvPr/>
        </p:nvSpPr>
        <p:spPr>
          <a:xfrm>
            <a:off x="222120" y="4651200"/>
            <a:ext cx="3179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Requested information (among others)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262626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Bank account hold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262626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Balance of account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262626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persons allowed to proceed to bank operations on accou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0" name="Straight Arrow Connector 37"/>
          <p:cNvCxnSpPr/>
          <p:nvPr/>
        </p:nvCxnSpPr>
        <p:spPr>
          <a:xfrm>
            <a:off x="6819480" y="3917520"/>
            <a:ext cx="1080" cy="818280"/>
          </a:xfrm>
          <a:prstGeom prst="straightConnector1">
            <a:avLst/>
          </a:prstGeom>
          <a:ln w="25560">
            <a:solidFill>
              <a:srgbClr val="17375e"/>
            </a:solidFill>
            <a:miter/>
            <a:tailEnd len="med" type="arrow" w="med"/>
          </a:ln>
        </p:spPr>
      </p:cxnSp>
      <p:sp>
        <p:nvSpPr>
          <p:cNvPr id="101" name="TextBox 49"/>
          <p:cNvSpPr/>
          <p:nvPr/>
        </p:nvSpPr>
        <p:spPr>
          <a:xfrm>
            <a:off x="7391520" y="3917880"/>
            <a:ext cx="149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LU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Information request approve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ounded Rectangle 18"/>
          <p:cNvSpPr/>
          <p:nvPr/>
        </p:nvSpPr>
        <p:spPr>
          <a:xfrm>
            <a:off x="5805360" y="4802040"/>
            <a:ext cx="193356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a99"/>
              </a:gs>
              <a:gs pos="100000">
                <a:srgbClr val="d1403c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L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Administra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L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Cou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49"/>
          <p:cNvSpPr/>
          <p:nvPr/>
        </p:nvSpPr>
        <p:spPr>
          <a:xfrm>
            <a:off x="7391520" y="4494240"/>
            <a:ext cx="14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LU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49"/>
          <p:cNvSpPr/>
          <p:nvPr/>
        </p:nvSpPr>
        <p:spPr>
          <a:xfrm>
            <a:off x="7738920" y="4900680"/>
            <a:ext cx="140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LU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Information request denie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4" descr="C:\Users\jonathannorman\AppData\Local\Microsoft\Windows\Temporary Internet Files\Content.Outlook\MWWEO8CA\BCC Luxembourg_LOGO_RGB (2).jpg"/>
          <p:cNvPicPr/>
          <p:nvPr/>
        </p:nvPicPr>
        <p:blipFill>
          <a:blip r:embed="rId1"/>
          <a:stretch/>
        </p:blipFill>
        <p:spPr>
          <a:xfrm>
            <a:off x="3271680" y="6058080"/>
            <a:ext cx="2600640" cy="4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L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ysis by Court of Appe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38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L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 criteria for an information reques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L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hibition for a Tax Administration to proceed to « </a:t>
            </a:r>
            <a:r>
              <a:rPr b="0" i="1" lang="fr-L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shing</a:t>
            </a:r>
            <a:r>
              <a:rPr b="0" lang="fr-L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fr-L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dition</a:t>
            </a:r>
            <a:r>
              <a:rPr b="0" lang="fr-L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L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ested information must be « </a:t>
            </a:r>
            <a:r>
              <a:rPr b="0" i="1" lang="fr-L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eseeably relevant</a:t>
            </a:r>
            <a:r>
              <a:rPr b="0" lang="fr-L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request denied by Court: Purpose of the information request was to obtain information on other persons than the « 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on under investigatio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B65D66-D6FB-4FDA-A829-52DCA94830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Espace réservé du pied de page 3"/>
          <p:cNvSpPr/>
          <p:nvPr/>
        </p:nvSpPr>
        <p:spPr>
          <a:xfrm>
            <a:off x="0" y="5842080"/>
            <a:ext cx="9144000" cy="10159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Espace réservé du numéro de diapositive 6"/>
          <p:cNvSpPr/>
          <p:nvPr/>
        </p:nvSpPr>
        <p:spPr>
          <a:xfrm>
            <a:off x="6553080" y="617364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747F22-CB53-44FC-BC91-3EC8117267D6}" type="slidenum">
              <a:rPr b="0" lang="fr-FR" sz="1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6" descr="C:\Users\jonathannorman\AppData\Local\Microsoft\Windows\Temporary Internet Files\Content.Outlook\MWWEO8CA\BCC Luxembourg_LOGO_RGB (2).jpg"/>
          <p:cNvPicPr/>
          <p:nvPr/>
        </p:nvPicPr>
        <p:blipFill>
          <a:blip r:embed="rId1"/>
          <a:stretch/>
        </p:blipFill>
        <p:spPr>
          <a:xfrm>
            <a:off x="3271680" y="5994360"/>
            <a:ext cx="2600640" cy="4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L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test News for exchange of inform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L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L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ce March 2013: Procedure for exchange of information on European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L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ansion of exchange of information to several non EU countries (i.e., Canada, South Korea, Malta, Poland, Romania, Russia, Switzerland, Kazakhstan, Macedonia, Seychelles and Tadjikista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C0F89A-8194-4D60-BE16-9A928ECBE5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Espace réservé du pied de page 3"/>
          <p:cNvSpPr/>
          <p:nvPr/>
        </p:nvSpPr>
        <p:spPr>
          <a:xfrm>
            <a:off x="0" y="5931000"/>
            <a:ext cx="9144000" cy="9270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6" descr="C:\Users\jonathannorman\AppData\Local\Microsoft\Windows\Temporary Internet Files\Content.Outlook\MWWEO8CA\BCC Luxembourg_LOGO_RGB (2).jpg"/>
          <p:cNvPicPr/>
          <p:nvPr/>
        </p:nvPicPr>
        <p:blipFill>
          <a:blip r:embed="rId1"/>
          <a:stretch/>
        </p:blipFill>
        <p:spPr>
          <a:xfrm>
            <a:off x="3284640" y="6126120"/>
            <a:ext cx="2600280" cy="4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L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can be expected for the futu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L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TCA regulation: automatic exchange of information regarding US citiz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L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test EU regulation introduces « most favored nation » cl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L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will be Luxembourg’s position on bank secrecy / exchange of information on an international / EU Leve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369559-DA30-4D91-BB26-93B3465F2C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Espace réservé du pied de page 3"/>
          <p:cNvSpPr/>
          <p:nvPr/>
        </p:nvSpPr>
        <p:spPr>
          <a:xfrm>
            <a:off x="0" y="5931000"/>
            <a:ext cx="9144000" cy="9046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6" descr="C:\Users\jonathannorman\AppData\Local\Microsoft\Windows\Temporary Internet Files\Content.Outlook\MWWEO8CA\BCC Luxembourg_LOGO_RGB (2).jpg"/>
          <p:cNvPicPr/>
          <p:nvPr/>
        </p:nvPicPr>
        <p:blipFill>
          <a:blip r:embed="rId1"/>
          <a:stretch/>
        </p:blipFill>
        <p:spPr>
          <a:xfrm>
            <a:off x="3271680" y="6126120"/>
            <a:ext cx="2600640" cy="4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Content Placeholder 2"/>
          <p:cNvSpPr/>
          <p:nvPr/>
        </p:nvSpPr>
        <p:spPr>
          <a:xfrm>
            <a:off x="1163520" y="1620720"/>
            <a:ext cx="73249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569880" indent="-56988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Espace réservé du pied de page 3"/>
          <p:cNvSpPr/>
          <p:nvPr/>
        </p:nvSpPr>
        <p:spPr>
          <a:xfrm>
            <a:off x="0" y="5908680"/>
            <a:ext cx="9144000" cy="9493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Espace réservé du numéro de diapositive 6"/>
          <p:cNvSpPr/>
          <p:nvPr/>
        </p:nvSpPr>
        <p:spPr>
          <a:xfrm>
            <a:off x="6591240" y="61628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3F4D7C-925F-46A4-8DB8-284AC2DA648E}" type="slidenum">
              <a:rPr b="0" lang="fr-FR" sz="1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itle 1"/>
          <p:cNvSpPr/>
          <p:nvPr/>
        </p:nvSpPr>
        <p:spPr>
          <a:xfrm>
            <a:off x="380880" y="21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Questions ?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5270400" y="4259160"/>
            <a:ext cx="345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édric SCHIRR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: +352 45 31 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cschirrer@wagenerlegal.l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6"/>
          <p:cNvSpPr/>
          <p:nvPr/>
        </p:nvSpPr>
        <p:spPr>
          <a:xfrm>
            <a:off x="343080" y="4187880"/>
            <a:ext cx="351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istophe JOOS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él: +352 26 12 29 45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christophe.joosen@nautadutilh.com</a:t>
            </a:r>
            <a:r>
              <a:rPr b="1" lang="nl-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10" descr="C:\Users\jonathannorman\AppData\Local\Microsoft\Windows\Temporary Internet Files\Content.Outlook\MWWEO8CA\BCC Luxembourg_LOGO_RGB (2).jpg"/>
          <p:cNvPicPr/>
          <p:nvPr/>
        </p:nvPicPr>
        <p:blipFill>
          <a:blip r:embed="rId3"/>
          <a:stretch/>
        </p:blipFill>
        <p:spPr>
          <a:xfrm>
            <a:off x="3271680" y="6046920"/>
            <a:ext cx="2600640" cy="4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12:41:26Z</dcterms:created>
  <dc:creator>Arnaud Meisch</dc:creator>
  <dc:description/>
  <dc:language>en-US</dc:language>
  <cp:lastModifiedBy>Philip Medhurst</cp:lastModifiedBy>
  <dcterms:modified xsi:type="dcterms:W3CDTF">2013-05-16T14:00:17Z</dcterms:modified>
  <cp:revision>79</cp:revision>
  <dc:subject/>
  <dc:title>INVESTMENT FUNDS AND LIFE INSURANCE PRODUCTS LEGAL ASPECTS</dc:title>
</cp:coreProperties>
</file>